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E92-C17C-4D43-B31C-0A7B158B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22E-971E-4B9D-8274-B029606F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4C5-966D-4843-8B4C-46503890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35C-A5B8-4869-A3A8-3D1AF292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0D3-8D9C-479F-B288-1073D9CE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B56-8468-4402-882E-C4AC1B81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F47-93A5-4C1E-8386-07A5046C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0CC-0B37-44E7-9DE5-DABA77CF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499-A9A3-4294-8C8E-8D61A139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4A3-B414-49DF-BFC9-103BA1EB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C15-D509-4789-AE8B-54E20B68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408C-325D-4512-A177-26653A82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4941-D46D-41B6-925D-48618F4FD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678" t="28315" r="2177" b="3400"/>
          <a:stretch/>
        </p:blipFill>
        <p:spPr>
          <a:xfrm>
            <a:off x="1454040" y="0"/>
            <a:ext cx="593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4960" t="2499" r="3257" b="46974"/>
          <a:stretch/>
        </p:blipFill>
        <p:spPr>
          <a:xfrm>
            <a:off x="380880" y="0"/>
            <a:ext cx="792504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0578" t="53028" r="19791" b="11697"/>
          <a:stretch/>
        </p:blipFill>
        <p:spPr>
          <a:xfrm>
            <a:off x="2133720" y="0"/>
            <a:ext cx="4876560" cy="4295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81480" y="4343400"/>
            <a:ext cx="3675240" cy="363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86000" y="4419720"/>
            <a:ext cx="2943360" cy="35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029200" y="4724280"/>
            <a:ext cx="3857760" cy="34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438280" y="4724280"/>
            <a:ext cx="25146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4881" t="10009" r="3585" b="36613"/>
          <a:stretch/>
        </p:blipFill>
        <p:spPr>
          <a:xfrm>
            <a:off x="304920" y="0"/>
            <a:ext cx="815328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3660" t="66726" r="4804" b="8253"/>
          <a:stretch/>
        </p:blipFill>
        <p:spPr>
          <a:xfrm>
            <a:off x="1828800" y="0"/>
            <a:ext cx="7315200" cy="292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10986" t="3302" r="3585" b="80388"/>
          <a:stretch/>
        </p:blipFill>
        <p:spPr>
          <a:xfrm>
            <a:off x="609480" y="3124080"/>
            <a:ext cx="85345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10986" t="18755" r="3585" b="44206"/>
          <a:stretch/>
        </p:blipFill>
        <p:spPr>
          <a:xfrm>
            <a:off x="0" y="457200"/>
            <a:ext cx="89154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10811" t="6950" r="2703" b="11009"/>
          <a:stretch/>
        </p:blipFill>
        <p:spPr>
          <a:xfrm>
            <a:off x="0" y="304920"/>
            <a:ext cx="914400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3129" t="3166" r="4594" b="40122"/>
          <a:stretch/>
        </p:blipFill>
        <p:spPr>
          <a:xfrm>
            <a:off x="1066680" y="0"/>
            <a:ext cx="73152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3129" t="60874" r="4594" b="7289"/>
          <a:stretch/>
        </p:blipFill>
        <p:spPr>
          <a:xfrm>
            <a:off x="552600" y="0"/>
            <a:ext cx="8591400" cy="4452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7032" t="2083" r="3907" b="87152"/>
          <a:stretch/>
        </p:blipFill>
        <p:spPr>
          <a:xfrm>
            <a:off x="914400" y="4419720"/>
            <a:ext cx="82296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5207" r="0" b="6291"/>
          <a:stretch/>
        </p:blipFill>
        <p:spPr>
          <a:xfrm>
            <a:off x="2075040" y="0"/>
            <a:ext cx="515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4852" t="16080" r="2965" b="47133"/>
          <a:stretch/>
        </p:blipFill>
        <p:spPr>
          <a:xfrm>
            <a:off x="380880" y="685800"/>
            <a:ext cx="81075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6202" t="1666" r="3257" b="74177"/>
          <a:stretch/>
        </p:blipFill>
        <p:spPr>
          <a:xfrm>
            <a:off x="0" y="1143000"/>
            <a:ext cx="91440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4852" t="52869" r="2965" b="3167"/>
          <a:stretch/>
        </p:blipFill>
        <p:spPr>
          <a:xfrm>
            <a:off x="914400" y="685800"/>
            <a:ext cx="71928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3129" t="9415" r="3030" b="36663"/>
          <a:stretch/>
        </p:blipFill>
        <p:spPr>
          <a:xfrm>
            <a:off x="1143000" y="228600"/>
            <a:ext cx="695484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129" t="2083" r="4594" b="87152"/>
          <a:stretch/>
        </p:blipFill>
        <p:spPr>
          <a:xfrm>
            <a:off x="291960" y="3657600"/>
            <a:ext cx="8852040" cy="1550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3129" t="63338" r="3030" b="8330"/>
          <a:stretch/>
        </p:blipFill>
        <p:spPr>
          <a:xfrm>
            <a:off x="1344600" y="0"/>
            <a:ext cx="77994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3129" t="14507" r="4594" b="25032"/>
          <a:stretch/>
        </p:blipFill>
        <p:spPr>
          <a:xfrm>
            <a:off x="1752480" y="108000"/>
            <a:ext cx="6858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3124" r="0" b="3167"/>
          <a:stretch/>
        </p:blipFill>
        <p:spPr>
          <a:xfrm>
            <a:off x="2133720" y="228600"/>
            <a:ext cx="4709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3124" r="0" b="4208"/>
          <a:stretch/>
        </p:blipFill>
        <p:spPr>
          <a:xfrm>
            <a:off x="2286000" y="0"/>
            <a:ext cx="48718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41652" r="0" b="9198"/>
          <a:stretch/>
        </p:blipFill>
        <p:spPr>
          <a:xfrm>
            <a:off x="457200" y="304920"/>
            <a:ext cx="804852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481" t="11662" r="3257" b="43354"/>
          <a:stretch/>
        </p:blipFill>
        <p:spPr>
          <a:xfrm>
            <a:off x="685800" y="0"/>
            <a:ext cx="84582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64146" r="6975" b="10865"/>
          <a:stretch/>
        </p:blipFill>
        <p:spPr>
          <a:xfrm>
            <a:off x="609480" y="1371600"/>
            <a:ext cx="85345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4960" t="1666" r="3257" b="30025"/>
          <a:stretch/>
        </p:blipFill>
        <p:spPr>
          <a:xfrm>
            <a:off x="1049400" y="0"/>
            <a:ext cx="618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4960" t="69976" r="3257" b="7532"/>
          <a:stretch/>
        </p:blipFill>
        <p:spPr>
          <a:xfrm>
            <a:off x="228600" y="1828800"/>
            <a:ext cx="86868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3721" t="832" r="4497" b="60293"/>
          <a:stretch/>
        </p:blipFill>
        <p:spPr>
          <a:xfrm>
            <a:off x="0" y="0"/>
            <a:ext cx="888516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3721" t="38736" r="4497" b="11697"/>
          <a:stretch/>
        </p:blipFill>
        <p:spPr>
          <a:xfrm>
            <a:off x="685800" y="380880"/>
            <a:ext cx="7728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6:19:08Z</dcterms:created>
  <dc:creator> ata.maryam</dc:creator>
  <dc:description/>
  <dc:language>en-US</dc:language>
  <cp:lastModifiedBy> ata.maryam</cp:lastModifiedBy>
  <dcterms:modified xsi:type="dcterms:W3CDTF">2007-10-02T05:11:18Z</dcterms:modified>
  <cp:revision>19</cp:revision>
  <dc:subject/>
  <dc:title>Slide 1</dc:title>
</cp:coreProperties>
</file>