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2A9-DB67-4509-BA8C-9B9F9F27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534-4930-4211-8771-F3A0E7C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C9F-2641-42E7-9145-9F387F40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BBE-7CB9-4069-B9B5-BBE802B5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1B4-6DC8-40CB-9D4D-19E38B2A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D2F-3063-4F71-B41E-7428009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91D-3756-4F2A-954D-A00413E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84C-7C3D-4613-A7AD-0F6B6593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E2D-69BB-4DAE-AF1C-2CABBB1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D4E-D58A-44B6-83F6-EDCFAEA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AFE-8070-451A-9C66-50FFE0C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EC-BB24-4B2D-9FF0-E8E91E7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2F0F-0A02-4F75-9EAE-18183079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621" t="25285" r="4938" b="32092"/>
          <a:stretch/>
        </p:blipFill>
        <p:spPr>
          <a:xfrm>
            <a:off x="0" y="692280"/>
            <a:ext cx="89280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3424" t="53815" r="4790" b="6132"/>
          <a:stretch/>
        </p:blipFill>
        <p:spPr>
          <a:xfrm>
            <a:off x="179280" y="189000"/>
            <a:ext cx="89647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693" t="7088" r="5159" b="35427"/>
          <a:stretch/>
        </p:blipFill>
        <p:spPr>
          <a:xfrm>
            <a:off x="971640" y="0"/>
            <a:ext cx="7237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0681" t="64974" r="10501" b="6021"/>
          <a:stretch/>
        </p:blipFill>
        <p:spPr>
          <a:xfrm>
            <a:off x="2700360" y="0"/>
            <a:ext cx="6443640" cy="34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4136" t="8510" r="3609" b="75880"/>
          <a:stretch/>
        </p:blipFill>
        <p:spPr>
          <a:xfrm>
            <a:off x="0" y="3500280"/>
            <a:ext cx="8893080" cy="219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34713" t="29784" r="30051" b="40420"/>
          <a:stretch/>
        </p:blipFill>
        <p:spPr>
          <a:xfrm>
            <a:off x="0" y="0"/>
            <a:ext cx="28926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188" t="71392" r="3588" b="3331"/>
          <a:stretch/>
        </p:blipFill>
        <p:spPr>
          <a:xfrm>
            <a:off x="1258920" y="0"/>
            <a:ext cx="7632720" cy="308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2784" t="9794" r="5474" b="59457"/>
          <a:stretch/>
        </p:blipFill>
        <p:spPr>
          <a:xfrm>
            <a:off x="971640" y="3014640"/>
            <a:ext cx="78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4109" t="41793" r="4743" b="4683"/>
          <a:stretch/>
        </p:blipFill>
        <p:spPr>
          <a:xfrm>
            <a:off x="90000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3543120" cy="66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8769" t="11275" r="13203" b="41354"/>
          <a:stretch/>
        </p:blipFill>
        <p:spPr>
          <a:xfrm>
            <a:off x="1042920" y="1341360"/>
            <a:ext cx="5905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1800000" cy="30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3168720" cy="33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17275" t="76746" r="3677" b="5553"/>
          <a:stretch/>
        </p:blipFill>
        <p:spPr>
          <a:xfrm>
            <a:off x="2951280" y="4581360"/>
            <a:ext cx="6192720" cy="2025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066160" cy="414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8617" t="40805" r="12800" b="53125"/>
          <a:stretch/>
        </p:blipFill>
        <p:spPr>
          <a:xfrm>
            <a:off x="179280" y="6354720"/>
            <a:ext cx="446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2504880" cy="485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0126" t="19306" r="23805" b="28546"/>
          <a:stretch/>
        </p:blipFill>
        <p:spPr>
          <a:xfrm>
            <a:off x="0" y="1052640"/>
            <a:ext cx="4006800" cy="544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0760" y="0"/>
            <a:ext cx="4143240" cy="59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28729" t="13101" r="21461" b="64604"/>
          <a:stretch/>
        </p:blipFill>
        <p:spPr>
          <a:xfrm>
            <a:off x="3995640" y="1413000"/>
            <a:ext cx="5148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9216" t="47299" r="0" b="5718"/>
          <a:stretch/>
        </p:blipFill>
        <p:spPr>
          <a:xfrm>
            <a:off x="1198440" y="0"/>
            <a:ext cx="7945560" cy="600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35280" y="5932440"/>
            <a:ext cx="20890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3454" t="18922" r="4418" b="5422"/>
          <a:stretch/>
        </p:blipFill>
        <p:spPr>
          <a:xfrm>
            <a:off x="1403280" y="0"/>
            <a:ext cx="571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8621" t="67914" r="4938" b="8447"/>
          <a:stretch/>
        </p:blipFill>
        <p:spPr>
          <a:xfrm>
            <a:off x="179280" y="0"/>
            <a:ext cx="8748720" cy="259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0304" t="28784" r="21582" b="36750"/>
          <a:stretch/>
        </p:blipFill>
        <p:spPr>
          <a:xfrm>
            <a:off x="179280" y="2895480"/>
            <a:ext cx="457200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43280" y="3565440"/>
          <a:ext cx="4500720" cy="27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65440"/>
                    <a:ext cx="4500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5753" t="11393" r="4040" b="23180"/>
          <a:stretch/>
        </p:blipFill>
        <p:spPr>
          <a:xfrm>
            <a:off x="87300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6931" t="78819" r="3250" b="4935"/>
          <a:stretch/>
        </p:blipFill>
        <p:spPr>
          <a:xfrm>
            <a:off x="179280" y="1197000"/>
            <a:ext cx="914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0141" t="7226" r="19399" b="27118"/>
          <a:stretch/>
        </p:blipFill>
        <p:spPr>
          <a:xfrm>
            <a:off x="0" y="0"/>
            <a:ext cx="432288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22064" t="38744" r="25174" b="3041"/>
          <a:stretch/>
        </p:blipFill>
        <p:spPr>
          <a:xfrm>
            <a:off x="4716360" y="260280"/>
            <a:ext cx="39592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077" t="9620" r="10249" b="66312"/>
          <a:stretch/>
        </p:blipFill>
        <p:spPr>
          <a:xfrm>
            <a:off x="395280" y="3498840"/>
            <a:ext cx="7993080" cy="335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6728" t="73956" r="13625" b="3721"/>
          <a:stretch/>
        </p:blipFill>
        <p:spPr>
          <a:xfrm>
            <a:off x="1077840" y="0"/>
            <a:ext cx="8066160" cy="330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2305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72725" r="0" b="0"/>
          <a:stretch/>
        </p:blipFill>
        <p:spPr>
          <a:xfrm>
            <a:off x="4892760" y="18910440"/>
            <a:ext cx="8502480" cy="338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3828" t="43087" r="11721" b="40091"/>
          <a:stretch/>
        </p:blipFill>
        <p:spPr>
          <a:xfrm>
            <a:off x="611280" y="0"/>
            <a:ext cx="8208720" cy="238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4802" t="62387" r="11721" b="27986"/>
          <a:stretch/>
        </p:blipFill>
        <p:spPr>
          <a:xfrm>
            <a:off x="431640" y="2565360"/>
            <a:ext cx="8712360" cy="146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22064" t="10512" r="24202" b="63877"/>
          <a:stretch/>
        </p:blipFill>
        <p:spPr>
          <a:xfrm>
            <a:off x="2484360" y="404964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3851" t="72898" r="11721" b="6096"/>
          <a:stretch/>
        </p:blipFill>
        <p:spPr>
          <a:xfrm>
            <a:off x="611280" y="0"/>
            <a:ext cx="8280360" cy="300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15357" t="46635" r="19399" b="33677"/>
          <a:stretch/>
        </p:blipFill>
        <p:spPr>
          <a:xfrm>
            <a:off x="0" y="2997360"/>
            <a:ext cx="4896000" cy="215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9887" t="71985" r="20628" b="9151"/>
          <a:stretch/>
        </p:blipFill>
        <p:spPr>
          <a:xfrm>
            <a:off x="4680000" y="4789440"/>
            <a:ext cx="4464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1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5753" t="9846" r="22276" b="60605"/>
          <a:stretch/>
        </p:blipFill>
        <p:spPr>
          <a:xfrm>
            <a:off x="324000" y="1125360"/>
            <a:ext cx="77770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4802" t="39409" r="7870" b="6993"/>
          <a:stretch/>
        </p:blipFill>
        <p:spPr>
          <a:xfrm>
            <a:off x="1258920" y="0"/>
            <a:ext cx="6553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8769" t="11275" r="13203" b="41354"/>
          <a:stretch/>
        </p:blipFill>
        <p:spPr>
          <a:xfrm>
            <a:off x="0" y="0"/>
            <a:ext cx="3456000" cy="3065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7681" t="7891" r="7870" b="77676"/>
          <a:stretch/>
        </p:blipFill>
        <p:spPr>
          <a:xfrm>
            <a:off x="2806560" y="3213000"/>
            <a:ext cx="633744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5357" t="51890" r="5965" b="23152"/>
          <a:stretch/>
        </p:blipFill>
        <p:spPr>
          <a:xfrm>
            <a:off x="0" y="4621320"/>
            <a:ext cx="4824360" cy="223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140360" y="5516640"/>
            <a:ext cx="44100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3115" t="7612" r="2403" b="0"/>
          <a:stretch/>
        </p:blipFill>
        <p:spPr>
          <a:xfrm>
            <a:off x="826920" y="981000"/>
            <a:ext cx="6553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95" t="7661" r="5597" b="85180"/>
          <a:stretch/>
        </p:blipFill>
        <p:spPr>
          <a:xfrm>
            <a:off x="179280" y="0"/>
            <a:ext cx="8964720" cy="10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9795" t="27271" r="5597" b="64406"/>
          <a:stretch/>
        </p:blipFill>
        <p:spPr>
          <a:xfrm>
            <a:off x="0" y="3213000"/>
            <a:ext cx="9144000" cy="12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297400" y="1052640"/>
          <a:ext cx="3846600" cy="22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7400" y="1052640"/>
                    <a:ext cx="38466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4435560"/>
          <a:ext cx="3780000" cy="24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435560"/>
                    <a:ext cx="378000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924360" y="4797360"/>
          <a:ext cx="4830840" cy="18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797360"/>
                    <a:ext cx="48308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6707" t="82743" r="9816" b="4777"/>
          <a:stretch/>
        </p:blipFill>
        <p:spPr>
          <a:xfrm>
            <a:off x="179280" y="0"/>
            <a:ext cx="8964720" cy="195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700360" cy="2324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16311" t="11163" r="18448" b="79645"/>
          <a:stretch/>
        </p:blipFill>
        <p:spPr>
          <a:xfrm>
            <a:off x="3492360" y="2205000"/>
            <a:ext cx="48960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2879" t="48589" r="13644" b="22643"/>
          <a:stretch/>
        </p:blipFill>
        <p:spPr>
          <a:xfrm>
            <a:off x="2195640" y="3213000"/>
            <a:ext cx="6696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7179" t="77903" r="13644" b="5689"/>
          <a:stretch/>
        </p:blipFill>
        <p:spPr>
          <a:xfrm>
            <a:off x="3708360" y="0"/>
            <a:ext cx="5435640" cy="220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2310" t="8102" r="9436" b="61369"/>
          <a:stretch/>
        </p:blipFill>
        <p:spPr>
          <a:xfrm>
            <a:off x="1692360" y="2243160"/>
            <a:ext cx="7057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34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5753" t="41380" r="3089" b="6326"/>
          <a:stretch/>
        </p:blipFill>
        <p:spPr>
          <a:xfrm>
            <a:off x="250920" y="0"/>
            <a:ext cx="799308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5615" t="5922" r="0" b="46026"/>
          <a:stretch/>
        </p:blipFill>
        <p:spPr>
          <a:xfrm>
            <a:off x="468360" y="0"/>
            <a:ext cx="78706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18236" t="54265" r="0" b="3952"/>
          <a:stretch/>
        </p:blipFill>
        <p:spPr>
          <a:xfrm>
            <a:off x="0" y="0"/>
            <a:ext cx="8331120" cy="6221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16360" y="6018120"/>
            <a:ext cx="56163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4802" t="17070" r="3089" b="26017"/>
          <a:stretch/>
        </p:blipFill>
        <p:spPr>
          <a:xfrm>
            <a:off x="1332000" y="260280"/>
            <a:ext cx="6912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52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6452" t="74201" r="2392" b="2810"/>
          <a:stretch/>
        </p:blipFill>
        <p:spPr>
          <a:xfrm>
            <a:off x="179280" y="981000"/>
            <a:ext cx="89647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4872" t="14203" r="16036" b="28000"/>
          <a:stretch/>
        </p:blipFill>
        <p:spPr>
          <a:xfrm>
            <a:off x="1403280" y="520560"/>
            <a:ext cx="518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4560" cy="315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35246" t="75518" r="6219" b="5010"/>
          <a:stretch/>
        </p:blipFill>
        <p:spPr>
          <a:xfrm>
            <a:off x="3851280" y="0"/>
            <a:ext cx="5292720" cy="2573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8651" t="11813" r="0" b="58376"/>
          <a:stretch/>
        </p:blipFill>
        <p:spPr>
          <a:xfrm>
            <a:off x="1476360" y="3279600"/>
            <a:ext cx="75042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9321" t="53537" r="5597" b="5563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9187" t="80108" r="0" b="2822"/>
          <a:stretch/>
        </p:blipFill>
        <p:spPr>
          <a:xfrm>
            <a:off x="2340000" y="0"/>
            <a:ext cx="606420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879" t="12480" r="4040" b="44839"/>
          <a:stretch/>
        </p:blipFill>
        <p:spPr>
          <a:xfrm>
            <a:off x="1692360" y="1916280"/>
            <a:ext cx="698508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5753" t="63689" r="10746" b="26047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23990" t="11163" r="22276" b="52715"/>
          <a:stretch/>
        </p:blipFill>
        <p:spPr>
          <a:xfrm>
            <a:off x="2268360" y="1708200"/>
            <a:ext cx="43912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4802" t="75258" r="10746" b="4387"/>
          <a:stretch/>
        </p:blipFill>
        <p:spPr>
          <a:xfrm>
            <a:off x="468360" y="0"/>
            <a:ext cx="8675640" cy="3056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4802" t="54512" r="6919" b="11352"/>
          <a:stretch/>
        </p:blipFill>
        <p:spPr>
          <a:xfrm>
            <a:off x="468360" y="2637000"/>
            <a:ext cx="5543640" cy="313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rcRect l="10534" t="20052" r="4063" b="69437"/>
          <a:stretch/>
        </p:blipFill>
        <p:spPr>
          <a:xfrm>
            <a:off x="1258920" y="5537160"/>
            <a:ext cx="7345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8651" t="9600" r="7870" b="45086"/>
          <a:stretch/>
        </p:blipFill>
        <p:spPr>
          <a:xfrm>
            <a:off x="755640" y="0"/>
            <a:ext cx="77058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15339" t="54670" r="9816" b="3968"/>
          <a:stretch/>
        </p:blipFill>
        <p:spPr>
          <a:xfrm>
            <a:off x="2050920" y="0"/>
            <a:ext cx="5616720" cy="453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13434" t="13145" r="11721" b="67151"/>
          <a:stretch/>
        </p:blipFill>
        <p:spPr>
          <a:xfrm>
            <a:off x="1763640" y="4508640"/>
            <a:ext cx="5616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7681" t="36123" r="10746" b="8311"/>
          <a:stretch/>
        </p:blipFill>
        <p:spPr>
          <a:xfrm>
            <a:off x="971640" y="0"/>
            <a:ext cx="676908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0555" t="30867" r="8842" b="22761"/>
          <a:stretch/>
        </p:blipFill>
        <p:spPr>
          <a:xfrm>
            <a:off x="755640" y="0"/>
            <a:ext cx="7705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9791" t="83764" r="6602" b="3873"/>
          <a:stretch/>
        </p:blipFill>
        <p:spPr>
          <a:xfrm>
            <a:off x="1258920" y="0"/>
            <a:ext cx="702000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5480" t="5906" r="9117" b="52064"/>
          <a:stretch/>
        </p:blipFill>
        <p:spPr>
          <a:xfrm>
            <a:off x="826920" y="1757520"/>
            <a:ext cx="70930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4385" t="65220" r="8842" b="12248"/>
          <a:stretch/>
        </p:blipFill>
        <p:spPr>
          <a:xfrm>
            <a:off x="1979640" y="0"/>
            <a:ext cx="6553080" cy="2809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5753" t="29304" r="8842" b="34574"/>
          <a:stretch/>
        </p:blipFill>
        <p:spPr>
          <a:xfrm>
            <a:off x="2268360" y="2897280"/>
            <a:ext cx="640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9583" t="58855" r="3089" b="8311"/>
          <a:stretch/>
        </p:blipFill>
        <p:spPr>
          <a:xfrm>
            <a:off x="1403280" y="2941560"/>
            <a:ext cx="7128000" cy="391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9604" t="16823" r="11721" b="59782"/>
          <a:stretch/>
        </p:blipFill>
        <p:spPr>
          <a:xfrm>
            <a:off x="900000" y="0"/>
            <a:ext cx="67676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364" t="85508" r="2157" b="4572"/>
          <a:stretch/>
        </p:blipFill>
        <p:spPr>
          <a:xfrm>
            <a:off x="0" y="0"/>
            <a:ext cx="9145440" cy="13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771640" y="2133720"/>
          <a:ext cx="6096240" cy="76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133720"/>
                    <a:ext cx="60962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987640" y="2852640"/>
          <a:ext cx="334476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2852640"/>
                    <a:ext cx="33447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6"/>
          <a:srcRect l="6661" t="23052" r="3917" b="39228"/>
          <a:stretch/>
        </p:blipFill>
        <p:spPr>
          <a:xfrm>
            <a:off x="395280" y="3573360"/>
            <a:ext cx="475128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67640" y="3357720"/>
          <a:ext cx="113184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3357720"/>
                    <a:ext cx="1131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580000" y="4365720"/>
          <a:ext cx="2916360" cy="10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0000" y="4365720"/>
                    <a:ext cx="29163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64000" y="5877000"/>
          <a:ext cx="353232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5877000"/>
                    <a:ext cx="3532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13"/>
          <a:srcRect l="49689" t="48064" r="1792" b="12542"/>
          <a:stretch/>
        </p:blipFill>
        <p:spPr>
          <a:xfrm>
            <a:off x="0" y="765000"/>
            <a:ext cx="2662200" cy="30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2556000" y="1341360"/>
            <a:ext cx="2447640" cy="70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5292720" y="1268280"/>
            <a:ext cx="3635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5753" t="8947" r="3089" b="48357"/>
          <a:stretch/>
        </p:blipFill>
        <p:spPr>
          <a:xfrm>
            <a:off x="1403280" y="0"/>
            <a:ext cx="6840720" cy="468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8632" t="67644" r="4040" b="12233"/>
          <a:stretch/>
        </p:blipFill>
        <p:spPr>
          <a:xfrm>
            <a:off x="1403280" y="4651200"/>
            <a:ext cx="6553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4802" t="11829" r="4993" b="48617"/>
          <a:stretch/>
        </p:blipFill>
        <p:spPr>
          <a:xfrm>
            <a:off x="0" y="0"/>
            <a:ext cx="8474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20987" t="51385" r="4993" b="17909"/>
          <a:stretch/>
        </p:blipFill>
        <p:spPr>
          <a:xfrm>
            <a:off x="324000" y="620640"/>
            <a:ext cx="85676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4408" t="13537" r="6919" b="48371"/>
          <a:stretch/>
        </p:blipFill>
        <p:spPr>
          <a:xfrm>
            <a:off x="4321080" y="0"/>
            <a:ext cx="4822920" cy="3411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6728" t="51629" r="7870" b="28683"/>
          <a:stretch/>
        </p:blipFill>
        <p:spPr>
          <a:xfrm>
            <a:off x="2735280" y="3573360"/>
            <a:ext cx="6408720" cy="215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50858" t="71333" r="16523" b="6342"/>
          <a:stretch/>
        </p:blipFill>
        <p:spPr>
          <a:xfrm>
            <a:off x="0" y="4410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rcRect l="17285" t="70668" r="56823" b="6342"/>
          <a:stretch/>
        </p:blipFill>
        <p:spPr>
          <a:xfrm>
            <a:off x="179280" y="1844640"/>
            <a:ext cx="1943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4802" t="16419" r="10767" b="34980"/>
          <a:stretch/>
        </p:blipFill>
        <p:spPr>
          <a:xfrm>
            <a:off x="0" y="0"/>
            <a:ext cx="7954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956720" y="0"/>
          <a:ext cx="11872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0"/>
                    <a:ext cx="1187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308720" y="0"/>
          <a:ext cx="671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0"/>
                    <a:ext cx="6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3280" y="0"/>
          <a:ext cx="2592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0"/>
                    <a:ext cx="2592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619280" y="0"/>
          <a:ext cx="287964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0"/>
                    <a:ext cx="28796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9"/>
          <a:srcRect l="3496" t="33513" r="4783" b="30712"/>
          <a:stretch/>
        </p:blipFill>
        <p:spPr>
          <a:xfrm>
            <a:off x="971640" y="814320"/>
            <a:ext cx="81723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3496" t="74076" r="4783" b="0"/>
          <a:stretch/>
        </p:blipFill>
        <p:spPr>
          <a:xfrm>
            <a:off x="826920" y="0"/>
            <a:ext cx="7848720" cy="3241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5480" t="9311" r="661" b="67584"/>
          <a:stretch/>
        </p:blipFill>
        <p:spPr>
          <a:xfrm>
            <a:off x="684360" y="3357720"/>
            <a:ext cx="8210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5480" t="31610" r="661" b="25602"/>
          <a:stretch/>
        </p:blipFill>
        <p:spPr>
          <a:xfrm>
            <a:off x="611280" y="260280"/>
            <a:ext cx="85327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480" t="76708" r="661" b="8256"/>
          <a:stretch/>
        </p:blipFill>
        <p:spPr>
          <a:xfrm>
            <a:off x="468360" y="0"/>
            <a:ext cx="7704000" cy="180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2690" t="11010" r="4790" b="46773"/>
          <a:stretch/>
        </p:blipFill>
        <p:spPr>
          <a:xfrm>
            <a:off x="684360" y="1773360"/>
            <a:ext cx="7665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9:18:23Z</dcterms:created>
  <dc:creator>Aghaei</dc:creator>
  <dc:description/>
  <dc:language>en-US</dc:language>
  <cp:lastModifiedBy> ata.maryam</cp:lastModifiedBy>
  <dcterms:modified xsi:type="dcterms:W3CDTF">2007-10-02T05:26:36Z</dcterms:modified>
  <cp:revision>71</cp:revision>
  <dc:subject/>
  <dc:title>Slide 1</dc:title>
</cp:coreProperties>
</file>