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0EF-71F9-4DCB-872F-EBB01D62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577-7C68-4620-B266-0A21D2D1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D6E-8A2E-4ADA-B023-F00D7830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1B4-2B8D-43CD-B05B-16D2DF75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91E-1D6B-4BF6-8AA9-7323A82E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D9D-C011-44A9-BE7B-8FDFEB86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AEF-C7AE-45DF-A009-402B376E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1E8-C507-4C8C-8C4C-8E213363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CE5-6D8E-4B6D-B994-3F806E43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762-610C-4F3D-82C8-280D402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E1C-FC41-47C2-A4C4-60DF6E52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99D-FCAE-4A96-9043-A7A6310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8005-A85D-4E5A-B8B5-3C69D1A9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7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png"/><Relationship Id="rId7" Type="http://schemas.openxmlformats.org/officeDocument/2006/relationships/image" Target="../media/image5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363" t="24740" r="4545" b="49530"/>
          <a:stretch/>
        </p:blipFill>
        <p:spPr>
          <a:xfrm>
            <a:off x="1676520" y="0"/>
            <a:ext cx="746748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114720"/>
            <a:ext cx="6019920" cy="3743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29200" y="6019920"/>
            <a:ext cx="676440" cy="45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343400" y="3352680"/>
            <a:ext cx="48006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7251" t="39201" r="5763" b="4918"/>
          <a:stretch/>
        </p:blipFill>
        <p:spPr>
          <a:xfrm>
            <a:off x="1066680" y="0"/>
            <a:ext cx="73915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4497" t="6673" r="6973" b="69975"/>
          <a:stretch/>
        </p:blipFill>
        <p:spPr>
          <a:xfrm>
            <a:off x="1371600" y="0"/>
            <a:ext cx="6477120" cy="279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14497" t="34197" r="17846" b="34943"/>
          <a:stretch/>
        </p:blipFill>
        <p:spPr>
          <a:xfrm>
            <a:off x="0" y="3233880"/>
            <a:ext cx="5486400" cy="362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68560" y="2590920"/>
            <a:ext cx="527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417" t="80069" r="9390" b="2502"/>
          <a:stretch/>
        </p:blipFill>
        <p:spPr>
          <a:xfrm>
            <a:off x="0" y="0"/>
            <a:ext cx="8839080" cy="25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6041" t="72565" r="5763" b="3248"/>
          <a:stretch/>
        </p:blipFill>
        <p:spPr>
          <a:xfrm>
            <a:off x="0" y="2743200"/>
            <a:ext cx="88390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2417" t="2502" r="9390" b="64137"/>
          <a:stretch/>
        </p:blipFill>
        <p:spPr>
          <a:xfrm>
            <a:off x="0" y="304920"/>
            <a:ext cx="87631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9331" t="0" r="17846" b="34109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65977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624" t="38368" r="9390" b="12424"/>
          <a:stretch/>
        </p:blipFill>
        <p:spPr>
          <a:xfrm>
            <a:off x="838080" y="0"/>
            <a:ext cx="83059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38800" y="0"/>
            <a:ext cx="4705200" cy="876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1210" t="72565" r="10597" b="10756"/>
          <a:stretch/>
        </p:blipFill>
        <p:spPr>
          <a:xfrm>
            <a:off x="0" y="762120"/>
            <a:ext cx="9144000" cy="2504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16296" t="49228" r="16010" b="19069"/>
          <a:stretch/>
        </p:blipFill>
        <p:spPr>
          <a:xfrm>
            <a:off x="0" y="3211560"/>
            <a:ext cx="5181480" cy="3646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57800" y="6338880"/>
            <a:ext cx="38862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5013" t="1669" r="2221" b="69965"/>
          <a:stretch/>
        </p:blipFill>
        <p:spPr>
          <a:xfrm>
            <a:off x="0" y="0"/>
            <a:ext cx="9144000" cy="420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10145" b="5579"/>
          <a:stretch/>
        </p:blipFill>
        <p:spPr>
          <a:xfrm>
            <a:off x="4419720" y="4343400"/>
            <a:ext cx="4724280" cy="457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2590920" cy="317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3962520" cy="493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04920" y="5638680"/>
            <a:ext cx="49147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254" t="0" r="13504" b="39928"/>
          <a:stretch/>
        </p:blipFill>
        <p:spPr>
          <a:xfrm>
            <a:off x="85572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251" t="47147" r="4556" b="39950"/>
          <a:stretch/>
        </p:blipFill>
        <p:spPr>
          <a:xfrm>
            <a:off x="762120" y="152280"/>
            <a:ext cx="8001000" cy="169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8456" t="2502" r="40608" b="54126"/>
          <a:stretch/>
        </p:blipFill>
        <p:spPr>
          <a:xfrm>
            <a:off x="380880" y="1876320"/>
            <a:ext cx="4038840" cy="4981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63237" t="17347" r="6973" b="78010"/>
          <a:stretch/>
        </p:blipFill>
        <p:spPr>
          <a:xfrm>
            <a:off x="4876920" y="2971800"/>
            <a:ext cx="3962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52443"/>
          <a:stretch/>
        </p:blipFill>
        <p:spPr>
          <a:xfrm>
            <a:off x="304920" y="380880"/>
            <a:ext cx="88390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254" t="50061" r="0" b="4050"/>
          <a:stretch/>
        </p:blipFill>
        <p:spPr>
          <a:xfrm>
            <a:off x="0" y="0"/>
            <a:ext cx="87454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1241" t="14994" r="5736" b="53905"/>
          <a:stretch/>
        </p:blipFill>
        <p:spPr>
          <a:xfrm>
            <a:off x="0" y="685800"/>
            <a:ext cx="8915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241" t="46836" r="5736" b="18363"/>
          <a:stretch/>
        </p:blipFill>
        <p:spPr>
          <a:xfrm>
            <a:off x="0" y="1143000"/>
            <a:ext cx="89154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1218960" cy="320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18175" t="2502" r="21252" b="33322"/>
          <a:stretch/>
        </p:blipFill>
        <p:spPr>
          <a:xfrm>
            <a:off x="0" y="0"/>
            <a:ext cx="44528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5504" t="70012" r="23020" b="21654"/>
          <a:stretch/>
        </p:blipFill>
        <p:spPr>
          <a:xfrm>
            <a:off x="3505320" y="0"/>
            <a:ext cx="563868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3634" t="82515" r="4290" b="5817"/>
          <a:stretch/>
        </p:blipFill>
        <p:spPr>
          <a:xfrm>
            <a:off x="228600" y="0"/>
            <a:ext cx="8915400" cy="1643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6058" t="5835" r="3011" b="77497"/>
          <a:stretch/>
        </p:blipFill>
        <p:spPr>
          <a:xfrm>
            <a:off x="457200" y="1671480"/>
            <a:ext cx="8458200" cy="2254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133720" y="4343400"/>
            <a:ext cx="48006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45842" r="0" b="27487"/>
          <a:stretch/>
        </p:blipFill>
        <p:spPr>
          <a:xfrm>
            <a:off x="0" y="685800"/>
            <a:ext cx="91440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990720"/>
            <a:ext cx="1133640" cy="32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9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23018" t="5000" r="13983" b="30822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1666" r="2842" b="51066"/>
          <a:stretch/>
        </p:blipFill>
        <p:spPr>
          <a:xfrm>
            <a:off x="380880" y="0"/>
            <a:ext cx="82296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0528" t="48936" r="0" b="5851"/>
          <a:stretch/>
        </p:blipFill>
        <p:spPr>
          <a:xfrm>
            <a:off x="914400" y="49320"/>
            <a:ext cx="82296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95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32" t="71730" r="38384" b="3564"/>
          <a:stretch/>
        </p:blipFill>
        <p:spPr>
          <a:xfrm>
            <a:off x="0" y="3835440"/>
            <a:ext cx="4724280" cy="297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3624" t="45040" r="8180" b="28272"/>
          <a:stretch/>
        </p:blipFill>
        <p:spPr>
          <a:xfrm>
            <a:off x="1295280" y="990720"/>
            <a:ext cx="78487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2542" t="7502" r="0" b="56801"/>
          <a:stretch/>
        </p:blipFill>
        <p:spPr>
          <a:xfrm>
            <a:off x="0" y="685800"/>
            <a:ext cx="87393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2542" t="45812" r="0" b="14138"/>
          <a:stretch/>
        </p:blipFill>
        <p:spPr>
          <a:xfrm>
            <a:off x="228600" y="685800"/>
            <a:ext cx="8915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13483" t="4998" r="5618" b="37522"/>
          <a:stretch/>
        </p:blipFill>
        <p:spPr>
          <a:xfrm>
            <a:off x="990720" y="0"/>
            <a:ext cx="655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2452" t="69143" r="5618" b="10865"/>
          <a:stretch/>
        </p:blipFill>
        <p:spPr>
          <a:xfrm>
            <a:off x="685800" y="0"/>
            <a:ext cx="8458200" cy="2706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4807" t="2325" r="4807" b="68125"/>
          <a:stretch/>
        </p:blipFill>
        <p:spPr>
          <a:xfrm>
            <a:off x="762120" y="2590920"/>
            <a:ext cx="83818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111" t="31687" r="3619" b="2224"/>
          <a:stretch/>
        </p:blipFill>
        <p:spPr>
          <a:xfrm>
            <a:off x="2057400" y="0"/>
            <a:ext cx="643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4644" t="2411" r="2933" b="43331"/>
          <a:stretch/>
        </p:blipFill>
        <p:spPr>
          <a:xfrm>
            <a:off x="0" y="0"/>
            <a:ext cx="7315200" cy="6319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10052" t="8009" r="72902" b="85318"/>
          <a:stretch/>
        </p:blipFill>
        <p:spPr>
          <a:xfrm>
            <a:off x="3657600" y="4267080"/>
            <a:ext cx="762120" cy="449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19962" t="56674" r="57079" b="30693"/>
          <a:stretch/>
        </p:blipFill>
        <p:spPr>
          <a:xfrm>
            <a:off x="4038480" y="4952880"/>
            <a:ext cx="16765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990" t="69312" r="5733" b="1206"/>
          <a:stretch/>
        </p:blipFill>
        <p:spPr>
          <a:xfrm>
            <a:off x="990720" y="0"/>
            <a:ext cx="8153280" cy="387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5334120" y="4419720"/>
          <a:ext cx="3560760" cy="26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4419720"/>
                    <a:ext cx="356076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4"/>
          <a:srcRect l="25658" t="22607" r="24104" b="48947"/>
          <a:stretch/>
        </p:blipFill>
        <p:spPr>
          <a:xfrm>
            <a:off x="228600" y="3676680"/>
            <a:ext cx="388620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800600" y="4965840"/>
          <a:ext cx="4343400" cy="34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965840"/>
                    <a:ext cx="434340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495680" y="0"/>
          <a:ext cx="464832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0"/>
                    <a:ext cx="46483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19320" y="76320"/>
          <a:ext cx="33526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76320"/>
                    <a:ext cx="3352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600200" y="685800"/>
          <a:ext cx="190512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685800"/>
                    <a:ext cx="19051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7"/>
          <a:srcRect l="25881" t="63700" r="23881" b="7859"/>
          <a:stretch/>
        </p:blipFill>
        <p:spPr>
          <a:xfrm>
            <a:off x="0" y="1309680"/>
            <a:ext cx="6477120" cy="529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3733920" y="3352680"/>
          <a:ext cx="5410080" cy="382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3920" y="3352680"/>
                    <a:ext cx="54100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6523" t="1186" r="4316" b="81531"/>
          <a:stretch/>
        </p:blipFill>
        <p:spPr>
          <a:xfrm>
            <a:off x="457200" y="2057400"/>
            <a:ext cx="86868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42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2328840" cy="29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7251" t="1669" r="4556" b="49182"/>
          <a:stretch/>
        </p:blipFill>
        <p:spPr>
          <a:xfrm>
            <a:off x="0" y="380880"/>
            <a:ext cx="6324480" cy="510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29259" t="50819" r="30610" b="23268"/>
          <a:stretch/>
        </p:blipFill>
        <p:spPr>
          <a:xfrm>
            <a:off x="6400800" y="2362320"/>
            <a:ext cx="27432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2820" t="22537" r="4316" b="15443"/>
          <a:stretch/>
        </p:blipFill>
        <p:spPr>
          <a:xfrm>
            <a:off x="14479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1186" r="0" b="52049"/>
          <a:stretch/>
        </p:blipFill>
        <p:spPr>
          <a:xfrm>
            <a:off x="0" y="0"/>
            <a:ext cx="83883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3572" t="48974" r="0" b="10356"/>
          <a:stretch/>
        </p:blipFill>
        <p:spPr>
          <a:xfrm>
            <a:off x="533520" y="0"/>
            <a:ext cx="823572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1186" r="0" b="36793"/>
          <a:stretch/>
        </p:blipFill>
        <p:spPr>
          <a:xfrm>
            <a:off x="609480" y="0"/>
            <a:ext cx="640728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63211" r="0" b="7306"/>
          <a:stretch/>
        </p:blipFill>
        <p:spPr>
          <a:xfrm>
            <a:off x="1219320" y="0"/>
            <a:ext cx="7702560" cy="3432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6268" r="0" b="76829"/>
          <a:stretch/>
        </p:blipFill>
        <p:spPr>
          <a:xfrm>
            <a:off x="1447920" y="3733920"/>
            <a:ext cx="7162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23176" r="0" b="15443"/>
          <a:stretch/>
        </p:blipFill>
        <p:spPr>
          <a:xfrm>
            <a:off x="1384200" y="154080"/>
            <a:ext cx="722628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4237" r="0" b="31236"/>
          <a:stretch/>
        </p:blipFill>
        <p:spPr>
          <a:xfrm>
            <a:off x="2070000" y="0"/>
            <a:ext cx="707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11365" t="69720" r="0" b="10356"/>
          <a:stretch/>
        </p:blipFill>
        <p:spPr>
          <a:xfrm>
            <a:off x="380880" y="0"/>
            <a:ext cx="7801200" cy="2625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12344" t="1186" r="35081" b="77943"/>
          <a:stretch/>
        </p:blipFill>
        <p:spPr>
          <a:xfrm>
            <a:off x="762120" y="2971800"/>
            <a:ext cx="49528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22062" r="0" b="13411"/>
          <a:stretch/>
        </p:blipFill>
        <p:spPr>
          <a:xfrm>
            <a:off x="685800" y="158760"/>
            <a:ext cx="693432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-876" r="0" b="12918"/>
          <a:stretch/>
        </p:blipFill>
        <p:spPr>
          <a:xfrm>
            <a:off x="2133720" y="0"/>
            <a:ext cx="542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1748" t="2502" r="27511" b="53294"/>
          <a:stretch/>
        </p:blipFill>
        <p:spPr>
          <a:xfrm>
            <a:off x="2133720" y="685800"/>
            <a:ext cx="4890960" cy="617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3738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609480"/>
            <a:ext cx="17049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45771"/>
          <a:stretch/>
        </p:blipFill>
        <p:spPr>
          <a:xfrm>
            <a:off x="609480" y="228600"/>
            <a:ext cx="7832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9732" t="53394" r="0" b="1937"/>
          <a:stretch/>
        </p:blipFill>
        <p:spPr>
          <a:xfrm>
            <a:off x="228600" y="0"/>
            <a:ext cx="79740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10783" t="918" r="4258" b="47312"/>
          <a:stretch/>
        </p:blipFill>
        <p:spPr>
          <a:xfrm>
            <a:off x="914400" y="0"/>
            <a:ext cx="739152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12358" t="52693" r="2690" b="3985"/>
          <a:stretch/>
        </p:blipFill>
        <p:spPr>
          <a:xfrm>
            <a:off x="0" y="228600"/>
            <a:ext cx="83059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985" r="0" b="48573"/>
          <a:stretch/>
        </p:blipFill>
        <p:spPr>
          <a:xfrm>
            <a:off x="457200" y="0"/>
            <a:ext cx="83898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51432" r="0" b="7053"/>
          <a:stretch/>
        </p:blipFill>
        <p:spPr>
          <a:xfrm>
            <a:off x="544680" y="609480"/>
            <a:ext cx="85993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9665" t="54215" r="15431" b="8254"/>
          <a:stretch/>
        </p:blipFill>
        <p:spPr>
          <a:xfrm>
            <a:off x="0" y="1216080"/>
            <a:ext cx="7772400" cy="5641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6954840" cy="59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17049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71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16726" t="53001" r="18175" b="10051"/>
          <a:stretch/>
        </p:blipFill>
        <p:spPr>
          <a:xfrm>
            <a:off x="4724280" y="3182760"/>
            <a:ext cx="4191120" cy="3446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18811" t="18040" r="18988" b="48004"/>
          <a:stretch/>
        </p:blipFill>
        <p:spPr>
          <a:xfrm>
            <a:off x="0" y="3121200"/>
            <a:ext cx="4724280" cy="3736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6041" t="1669" r="5763" b="84988"/>
          <a:stretch/>
        </p:blipFill>
        <p:spPr>
          <a:xfrm>
            <a:off x="533520" y="1219320"/>
            <a:ext cx="83818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6041" t="5838" r="5763" b="73312"/>
          <a:stretch/>
        </p:blipFill>
        <p:spPr>
          <a:xfrm>
            <a:off x="2057400" y="0"/>
            <a:ext cx="7086600" cy="2427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7251" t="1669" r="4556" b="64969"/>
          <a:stretch/>
        </p:blipFill>
        <p:spPr>
          <a:xfrm>
            <a:off x="1447920" y="2438280"/>
            <a:ext cx="769608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6914" t="26689" r="19055" b="9921"/>
          <a:stretch/>
        </p:blipFill>
        <p:spPr>
          <a:xfrm>
            <a:off x="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67816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4:17:07Z</dcterms:created>
  <dc:creator> ata.maryam</dc:creator>
  <dc:description/>
  <dc:language>en-US</dc:language>
  <cp:lastModifiedBy> ata.maryam</cp:lastModifiedBy>
  <dcterms:modified xsi:type="dcterms:W3CDTF">2007-10-02T05:00:30Z</dcterms:modified>
  <cp:revision>46</cp:revision>
  <dc:subject/>
  <dc:title>Slide 1</dc:title>
</cp:coreProperties>
</file>