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62A-44B7-46ED-B4F9-7CEB31B5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D59-CE9D-486F-BD64-6195FD1C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C91-8DA9-4E6E-822D-646A391B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B99-4297-40CB-BA9A-C02D53F8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910-C51C-4D9D-B540-5618F001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7BD-AB0C-4CFB-A316-AF3ED429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AAE-54A0-4298-A1A4-9001A0F3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B9E-D143-42CE-AED8-C4EE86C1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EB3-57E0-4638-8A15-23A28888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1A7-1439-4D72-AF55-5F4C238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A5B-D92E-46A6-B3F1-AB23985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6B0-3BD6-4FF5-B4D7-5FD2D28C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4562-3929-45BC-866B-D33632744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153" t="7266" r="5598" b="41022"/>
          <a:stretch/>
        </p:blipFill>
        <p:spPr>
          <a:xfrm>
            <a:off x="395280" y="0"/>
            <a:ext cx="76341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4153" t="58979" r="5598" b="7507"/>
          <a:stretch/>
        </p:blipFill>
        <p:spPr>
          <a:xfrm>
            <a:off x="719280" y="476280"/>
            <a:ext cx="8424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8719" t="7454" r="3831" b="57229"/>
          <a:stretch/>
        </p:blipFill>
        <p:spPr>
          <a:xfrm>
            <a:off x="0" y="596880"/>
            <a:ext cx="914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8719" t="44572" r="2202" b="3177"/>
          <a:stretch/>
        </p:blipFill>
        <p:spPr>
          <a:xfrm>
            <a:off x="1042920" y="0"/>
            <a:ext cx="74898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8533" t="6999" r="4726" b="43612"/>
          <a:stretch/>
        </p:blipFill>
        <p:spPr>
          <a:xfrm>
            <a:off x="611280" y="0"/>
            <a:ext cx="76327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1959" t="57666" r="5661" b="13074"/>
          <a:stretch/>
        </p:blipFill>
        <p:spPr>
          <a:xfrm>
            <a:off x="395280" y="981000"/>
            <a:ext cx="83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834" t="5829" r="4171" b="46873"/>
          <a:stretch/>
        </p:blipFill>
        <p:spPr>
          <a:xfrm>
            <a:off x="395280" y="692280"/>
            <a:ext cx="8137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7643" t="41619" r="4171" b="8662"/>
          <a:stretch/>
        </p:blipFill>
        <p:spPr>
          <a:xfrm>
            <a:off x="468360" y="0"/>
            <a:ext cx="77058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125" t="2758" r="0" b="4794"/>
          <a:stretch/>
        </p:blipFill>
        <p:spPr>
          <a:xfrm>
            <a:off x="0" y="18900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9:18:23Z</dcterms:created>
  <dc:creator>Aghaei</dc:creator>
  <dc:description/>
  <dc:language>en-US</dc:language>
  <cp:lastModifiedBy> ata.maryam</cp:lastModifiedBy>
  <dcterms:modified xsi:type="dcterms:W3CDTF">2007-10-02T05:25:51Z</dcterms:modified>
  <cp:revision>72</cp:revision>
  <dc:subject/>
  <dc:title>Slide 1</dc:title>
</cp:coreProperties>
</file>