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8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7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714-DD2D-4309-A0FF-29B9D124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6F1A-5F49-4CAD-9D4C-AEB6DC0C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412C-3F20-41E9-B6F2-DC2B4DE0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7F3-4198-4FF0-9205-2C9B2E1C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5D5D-7DD3-4A39-AE8F-864F57FF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1A3A-D8A1-47F7-BE9B-20E0D715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EE91-D9B9-4B1A-8C06-0F40B117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9208-1200-4F3D-9919-DE7D657B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0E20-A8F4-47EF-8295-B8B1759B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1C20-D893-43EF-A3A0-41147A9B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CE6-FCE1-4B91-B717-3118E44D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B33B-5A41-4E4C-88F3-800AEB93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9D68-2398-4C31-B116-645CD4EF2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9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62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7865" t="35300" r="7865" b="18901"/>
          <a:stretch/>
        </p:blipFill>
        <p:spPr>
          <a:xfrm>
            <a:off x="0" y="0"/>
            <a:ext cx="5715000" cy="4419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58932" t="14340" r="0" b="69253"/>
          <a:stretch/>
        </p:blipFill>
        <p:spPr>
          <a:xfrm>
            <a:off x="6222960" y="4876920"/>
            <a:ext cx="2921040" cy="1752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9643" t="2215" r="43215" b="57126"/>
          <a:stretch/>
        </p:blipFill>
        <p:spPr>
          <a:xfrm>
            <a:off x="5791320" y="533520"/>
            <a:ext cx="3352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352680" y="838080"/>
          <a:ext cx="175284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838080"/>
                    <a:ext cx="17528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523880" y="304920"/>
          <a:ext cx="609624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04920"/>
                    <a:ext cx="60962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" descr=""/>
          <p:cNvPicPr/>
          <p:nvPr/>
        </p:nvPicPr>
        <p:blipFill>
          <a:blip r:embed="rId5"/>
          <a:srcRect l="14405" t="57903" r="26244" b="12469"/>
          <a:stretch/>
        </p:blipFill>
        <p:spPr>
          <a:xfrm>
            <a:off x="1447920" y="19051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4451" t="3953" r="3554" b="59508"/>
          <a:stretch/>
        </p:blipFill>
        <p:spPr>
          <a:xfrm>
            <a:off x="838080" y="0"/>
            <a:ext cx="7543800" cy="450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380880" y="5257800"/>
          <a:ext cx="1905120" cy="93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257800"/>
                    <a:ext cx="19051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095880" y="4952880"/>
          <a:ext cx="2590920" cy="161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5880" y="4952880"/>
                    <a:ext cx="259092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838080" y="4191120"/>
          <a:ext cx="3733920" cy="291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8080" y="4191120"/>
                    <a:ext cx="37339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1600200" y="4648320"/>
          <a:ext cx="2971800" cy="303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00200" y="4648320"/>
                    <a:ext cx="297180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429000" y="5257800"/>
          <a:ext cx="2438280" cy="1298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29000" y="5257800"/>
                    <a:ext cx="243828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5503" t="40123" r="36633" b="30249"/>
          <a:stretch/>
        </p:blipFill>
        <p:spPr>
          <a:xfrm>
            <a:off x="0" y="1219320"/>
            <a:ext cx="6172200" cy="474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457200" y="5943600"/>
          <a:ext cx="5029200" cy="39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943600"/>
                    <a:ext cx="50292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209680" y="6319800"/>
          <a:ext cx="198144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6319800"/>
                    <a:ext cx="19814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6"/>
          <a:srcRect l="7073" t="76354" r="3028" b="10206"/>
          <a:stretch/>
        </p:blipFill>
        <p:spPr>
          <a:xfrm>
            <a:off x="1219320" y="0"/>
            <a:ext cx="7924680" cy="1781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rcRect l="23230" t="90653" r="60613" b="7233"/>
          <a:stretch/>
        </p:blipFill>
        <p:spPr>
          <a:xfrm>
            <a:off x="4724280" y="1828800"/>
            <a:ext cx="2514600" cy="44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6172200" y="2514600"/>
          <a:ext cx="2971800" cy="18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72200" y="2514600"/>
                    <a:ext cx="2971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305320" y="4267080"/>
          <a:ext cx="3838680" cy="406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05320" y="4267080"/>
                    <a:ext cx="38386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17875" t="43222" r="25116" b="28662"/>
          <a:stretch/>
        </p:blipFill>
        <p:spPr>
          <a:xfrm>
            <a:off x="0" y="2963880"/>
            <a:ext cx="5257800" cy="389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8377" t="71693" r="23006" b="25498"/>
          <a:stretch/>
        </p:blipFill>
        <p:spPr>
          <a:xfrm>
            <a:off x="2971800" y="3505320"/>
            <a:ext cx="5943600" cy="366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2138" t="17131" r="7157" b="63685"/>
          <a:stretch/>
        </p:blipFill>
        <p:spPr>
          <a:xfrm>
            <a:off x="609480" y="0"/>
            <a:ext cx="83059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6724800" y="0"/>
          <a:ext cx="2419200" cy="4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4800" y="0"/>
                    <a:ext cx="2419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rcRect l="2040" t="36395" r="7171" b="56783"/>
          <a:stretch/>
        </p:blipFill>
        <p:spPr>
          <a:xfrm>
            <a:off x="304920" y="533520"/>
            <a:ext cx="8839080" cy="99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rcRect l="14405" t="75682" r="23279" b="11484"/>
          <a:stretch/>
        </p:blipFill>
        <p:spPr>
          <a:xfrm>
            <a:off x="228600" y="2133720"/>
            <a:ext cx="845820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093760" y="0"/>
          <a:ext cx="705024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3760" y="0"/>
                    <a:ext cx="70502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124080" y="762120"/>
          <a:ext cx="5867640" cy="4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762120"/>
                    <a:ext cx="586764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5"/>
          <a:srcRect l="26279" t="12469" r="23279" b="43086"/>
          <a:stretch/>
        </p:blipFill>
        <p:spPr>
          <a:xfrm>
            <a:off x="0" y="1143000"/>
            <a:ext cx="4317840" cy="571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3886200" y="5253120"/>
          <a:ext cx="4876920" cy="716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86200" y="5253120"/>
                    <a:ext cx="48769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371600" y="6181560"/>
          <a:ext cx="7543800" cy="676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71600" y="6181560"/>
                    <a:ext cx="754380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5937" t="59881" r="3554" b="3579"/>
          <a:stretch/>
        </p:blipFill>
        <p:spPr>
          <a:xfrm>
            <a:off x="457200" y="380880"/>
            <a:ext cx="868680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24793" t="43086" r="23279" b="11480"/>
          <a:stretch/>
        </p:blipFill>
        <p:spPr>
          <a:xfrm>
            <a:off x="0" y="2895480"/>
            <a:ext cx="3014640" cy="396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4800600" y="4572000"/>
          <a:ext cx="3733920" cy="4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4572000"/>
                    <a:ext cx="37339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257800" y="5334120"/>
          <a:ext cx="3048120" cy="60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7800" y="5334120"/>
                    <a:ext cx="3048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6"/>
          <a:srcRect l="4017" t="8008" r="3989" b="58892"/>
          <a:stretch/>
        </p:blipFill>
        <p:spPr>
          <a:xfrm>
            <a:off x="2819520" y="609480"/>
            <a:ext cx="6324480" cy="341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5638680" y="0"/>
          <a:ext cx="3276720" cy="57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0"/>
                    <a:ext cx="32767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5937" t="1974" r="3554" b="68767"/>
          <a:stretch/>
        </p:blipFill>
        <p:spPr>
          <a:xfrm>
            <a:off x="380880" y="762120"/>
            <a:ext cx="838224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5503" t="33212" r="3989" b="32223"/>
          <a:stretch/>
        </p:blipFill>
        <p:spPr>
          <a:xfrm>
            <a:off x="533520" y="762120"/>
            <a:ext cx="830556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6741" t="81889" r="6741" b="3899"/>
          <a:stretch/>
        </p:blipFill>
        <p:spPr>
          <a:xfrm>
            <a:off x="1447920" y="0"/>
            <a:ext cx="7391160" cy="1727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6778" t="45256" r="46642" b="23739"/>
          <a:stretch/>
        </p:blipFill>
        <p:spPr>
          <a:xfrm>
            <a:off x="0" y="12952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4451" t="76639" r="3554" b="3579"/>
          <a:stretch/>
        </p:blipFill>
        <p:spPr>
          <a:xfrm>
            <a:off x="685800" y="4272120"/>
            <a:ext cx="8001000" cy="2585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58019" t="54557" r="4718" b="35368"/>
          <a:stretch/>
        </p:blipFill>
        <p:spPr>
          <a:xfrm>
            <a:off x="4572000" y="2286000"/>
            <a:ext cx="335268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5172120" y="0"/>
          <a:ext cx="3971880" cy="59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2120" y="0"/>
                    <a:ext cx="397188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rcRect l="5040" t="71730" r="4451" b="4569"/>
          <a:stretch/>
        </p:blipFill>
        <p:spPr>
          <a:xfrm>
            <a:off x="3200400" y="609480"/>
            <a:ext cx="5943600" cy="2338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rcRect l="4451" t="2963" r="5040" b="83214"/>
          <a:stretch/>
        </p:blipFill>
        <p:spPr>
          <a:xfrm>
            <a:off x="3048120" y="2971800"/>
            <a:ext cx="6095880" cy="1398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rcRect l="25228" t="17780" r="27296" b="36791"/>
          <a:stretch/>
        </p:blipFill>
        <p:spPr>
          <a:xfrm>
            <a:off x="0" y="2590920"/>
            <a:ext cx="2968560" cy="42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2514600" y="5867280"/>
          <a:ext cx="6172200" cy="609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14600" y="5867280"/>
                    <a:ext cx="6172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2965" t="69756" r="6526" b="4569"/>
          <a:stretch/>
        </p:blipFill>
        <p:spPr>
          <a:xfrm>
            <a:off x="762120" y="0"/>
            <a:ext cx="8381880" cy="357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rcRect l="18856" t="2595" r="3989" b="76672"/>
          <a:stretch/>
        </p:blipFill>
        <p:spPr>
          <a:xfrm>
            <a:off x="609480" y="3413160"/>
            <a:ext cx="85345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5503" t="26296" r="3989" b="43086"/>
          <a:stretch/>
        </p:blipFill>
        <p:spPr>
          <a:xfrm>
            <a:off x="0" y="685800"/>
            <a:ext cx="91440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28193" t="2963" r="22852" b="54571"/>
          <a:stretch/>
        </p:blipFill>
        <p:spPr>
          <a:xfrm>
            <a:off x="0" y="2057400"/>
            <a:ext cx="3684600" cy="480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4451" t="62756" r="5040" b="23100"/>
          <a:stretch/>
        </p:blipFill>
        <p:spPr>
          <a:xfrm>
            <a:off x="380880" y="0"/>
            <a:ext cx="8763120" cy="2057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rcRect l="25417" t="45564" r="34347" b="52578"/>
          <a:stretch/>
        </p:blipFill>
        <p:spPr>
          <a:xfrm>
            <a:off x="4876920" y="6019920"/>
            <a:ext cx="396216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27758" t="50002" r="23279" b="3579"/>
          <a:stretch/>
        </p:blipFill>
        <p:spPr>
          <a:xfrm>
            <a:off x="2438280" y="0"/>
            <a:ext cx="481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4451" t="77824" r="5040" b="8890"/>
          <a:stretch/>
        </p:blipFill>
        <p:spPr>
          <a:xfrm>
            <a:off x="457200" y="0"/>
            <a:ext cx="8381880" cy="184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5638680" y="3581280"/>
          <a:ext cx="3505320" cy="127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3581280"/>
                    <a:ext cx="3505320" cy="12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4"/>
          <a:srcRect l="5503" t="2595" r="47021" b="53955"/>
          <a:stretch/>
        </p:blipFill>
        <p:spPr>
          <a:xfrm>
            <a:off x="0" y="1752480"/>
            <a:ext cx="3713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0" t="46050" r="4451" b="3579"/>
          <a:stretch/>
        </p:blipFill>
        <p:spPr>
          <a:xfrm>
            <a:off x="304920" y="0"/>
            <a:ext cx="86104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5503" t="8521" r="3989" b="43086"/>
          <a:stretch/>
        </p:blipFill>
        <p:spPr>
          <a:xfrm>
            <a:off x="380880" y="0"/>
            <a:ext cx="807732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2935" t="1106" r="28097" b="2081"/>
          <a:stretch/>
        </p:blipFill>
        <p:spPr>
          <a:xfrm>
            <a:off x="2209680" y="0"/>
            <a:ext cx="33116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3705" t="7996" r="41326" b="55873"/>
          <a:stretch/>
        </p:blipFill>
        <p:spPr>
          <a:xfrm>
            <a:off x="0" y="3048120"/>
            <a:ext cx="3886200" cy="3782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4017" t="60866" r="3989" b="8521"/>
          <a:stretch/>
        </p:blipFill>
        <p:spPr>
          <a:xfrm>
            <a:off x="1981080" y="0"/>
            <a:ext cx="7162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4675" t="75682" r="2804" b="3668"/>
          <a:stretch/>
        </p:blipFill>
        <p:spPr>
          <a:xfrm>
            <a:off x="457200" y="0"/>
            <a:ext cx="8381880" cy="2809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15891" t="29259" r="24765" b="44076"/>
          <a:stretch/>
        </p:blipFill>
        <p:spPr>
          <a:xfrm>
            <a:off x="0" y="2666880"/>
            <a:ext cx="5181480" cy="349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3048120" y="5791320"/>
          <a:ext cx="6095880" cy="38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5791320"/>
                    <a:ext cx="60958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029200" y="6276960"/>
          <a:ext cx="3657600" cy="58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6276960"/>
                    <a:ext cx="36576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29747" t="7936" r="6603" b="73452"/>
          <a:stretch/>
        </p:blipFill>
        <p:spPr>
          <a:xfrm>
            <a:off x="3962520" y="0"/>
            <a:ext cx="5181480" cy="2244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6603" t="44131" r="6603" b="14049"/>
          <a:stretch/>
        </p:blipFill>
        <p:spPr>
          <a:xfrm>
            <a:off x="0" y="2286000"/>
            <a:ext cx="640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5943600" y="2133720"/>
          <a:ext cx="3200400" cy="21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133720"/>
                    <a:ext cx="3200400" cy="21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3"/>
          <a:srcRect l="17362" t="3114" r="23329" b="60755"/>
          <a:stretch/>
        </p:blipFill>
        <p:spPr>
          <a:xfrm>
            <a:off x="0" y="1836720"/>
            <a:ext cx="5334120" cy="481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4495680" y="0"/>
          <a:ext cx="435780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95680" y="0"/>
                    <a:ext cx="43578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5789" t="47061" r="4518" b="17782"/>
          <a:stretch/>
        </p:blipFill>
        <p:spPr>
          <a:xfrm>
            <a:off x="0" y="380880"/>
            <a:ext cx="883908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7232" t="82223" r="5967" b="8019"/>
          <a:stretch/>
        </p:blipFill>
        <p:spPr>
          <a:xfrm>
            <a:off x="3352680" y="0"/>
            <a:ext cx="5791320" cy="965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0" t="3114" r="0" b="31457"/>
          <a:stretch/>
        </p:blipFill>
        <p:spPr>
          <a:xfrm>
            <a:off x="0" y="949320"/>
            <a:ext cx="6095880" cy="5908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rcRect l="7416" t="68548" r="22030" b="23641"/>
          <a:stretch/>
        </p:blipFill>
        <p:spPr>
          <a:xfrm>
            <a:off x="4038480" y="2057400"/>
            <a:ext cx="51055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6603" t="76363" r="3705" b="6750"/>
          <a:stretch/>
        </p:blipFill>
        <p:spPr>
          <a:xfrm>
            <a:off x="1523880" y="457200"/>
            <a:ext cx="7620120" cy="2133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343400" y="2514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Nazanin"/>
              </a:rPr>
              <a:t>مکانیکی شان از اهمیت برخوردار است، دیده می شود</a:t>
            </a:r>
            <a:r>
              <a:rPr b="1" lang="fa-IR" sz="1800" spc="-1" strike="noStrike">
                <a:solidFill>
                  <a:srgbClr val="000000"/>
                </a:solidFill>
                <a:latin typeface="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rcRect l="18496" t="16993" r="18913" b="58720"/>
          <a:stretch/>
        </p:blipFill>
        <p:spPr>
          <a:xfrm>
            <a:off x="0" y="2879640"/>
            <a:ext cx="6934320" cy="397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4876920" y="0"/>
          <a:ext cx="426708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0"/>
                    <a:ext cx="42670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5154" t="2141" r="6603" b="84401"/>
          <a:stretch/>
        </p:blipFill>
        <p:spPr>
          <a:xfrm>
            <a:off x="1828800" y="762120"/>
            <a:ext cx="7315200" cy="16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6724800" y="0"/>
          <a:ext cx="2419200" cy="81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24800" y="0"/>
                    <a:ext cx="24192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" descr=""/>
          <p:cNvPicPr/>
          <p:nvPr/>
        </p:nvPicPr>
        <p:blipFill>
          <a:blip r:embed="rId4"/>
          <a:srcRect l="5789" t="45109" r="5967" b="15830"/>
          <a:stretch/>
        </p:blipFill>
        <p:spPr>
          <a:xfrm>
            <a:off x="685800" y="2362320"/>
            <a:ext cx="65530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0" r="0" b="57548"/>
          <a:stretch/>
        </p:blipFill>
        <p:spPr>
          <a:xfrm>
            <a:off x="228600" y="457200"/>
            <a:ext cx="845172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rcRect l="0" t="42456" r="0" b="24619"/>
          <a:stretch/>
        </p:blipFill>
        <p:spPr>
          <a:xfrm>
            <a:off x="533520" y="990720"/>
            <a:ext cx="829944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5154" t="75385" r="3705" b="4111"/>
          <a:stretch/>
        </p:blipFill>
        <p:spPr>
          <a:xfrm>
            <a:off x="2971800" y="0"/>
            <a:ext cx="6172200" cy="2057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0" t="0" r="0" b="48004"/>
          <a:stretch/>
        </p:blipFill>
        <p:spPr>
          <a:xfrm>
            <a:off x="152280" y="1979640"/>
            <a:ext cx="647712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3705" t="58994" r="6603" b="2062"/>
          <a:stretch/>
        </p:blipFill>
        <p:spPr>
          <a:xfrm>
            <a:off x="1143000" y="0"/>
            <a:ext cx="8001000" cy="5032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6603" t="2062" r="5154" b="80965"/>
          <a:stretch/>
        </p:blipFill>
        <p:spPr>
          <a:xfrm>
            <a:off x="1523880" y="4883040"/>
            <a:ext cx="70866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965" t="1974" r="5040" b="71361"/>
          <a:stretch/>
        </p:blipFill>
        <p:spPr>
          <a:xfrm>
            <a:off x="1066680" y="0"/>
            <a:ext cx="8077320" cy="351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13353" t="56918" r="24331" b="10495"/>
          <a:stretch/>
        </p:blipFill>
        <p:spPr>
          <a:xfrm>
            <a:off x="0" y="3146400"/>
            <a:ext cx="4724280" cy="3711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rcRect l="17805" t="88525" r="21365" b="3579"/>
          <a:stretch/>
        </p:blipFill>
        <p:spPr>
          <a:xfrm>
            <a:off x="3886200" y="3733920"/>
            <a:ext cx="510552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8468" t="1605" r="3989" b="66793"/>
          <a:stretch/>
        </p:blipFill>
        <p:spPr>
          <a:xfrm>
            <a:off x="533520" y="990720"/>
            <a:ext cx="861048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4017" t="35186" r="5475" b="12469"/>
          <a:stretch/>
        </p:blipFill>
        <p:spPr>
          <a:xfrm>
            <a:off x="914400" y="0"/>
            <a:ext cx="7391520" cy="64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14405" t="87536" r="5475" b="5558"/>
          <a:stretch/>
        </p:blipFill>
        <p:spPr>
          <a:xfrm>
            <a:off x="457200" y="304920"/>
            <a:ext cx="8686800" cy="1127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23307" t="2595" r="23279" b="73709"/>
          <a:stretch/>
        </p:blipFill>
        <p:spPr>
          <a:xfrm>
            <a:off x="1828800" y="1371600"/>
            <a:ext cx="6477120" cy="4317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5503" t="25731" r="23279" b="66793"/>
          <a:stretch/>
        </p:blipFill>
        <p:spPr>
          <a:xfrm>
            <a:off x="1752480" y="5848200"/>
            <a:ext cx="64008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4451" t="33581" r="5040" b="19012"/>
          <a:stretch/>
        </p:blipFill>
        <p:spPr>
          <a:xfrm>
            <a:off x="228600" y="0"/>
            <a:ext cx="86868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5503" t="81609" r="3989" b="2595"/>
          <a:stretch/>
        </p:blipFill>
        <p:spPr>
          <a:xfrm>
            <a:off x="228600" y="0"/>
            <a:ext cx="8915400" cy="23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228600" y="6172200"/>
          <a:ext cx="4114800" cy="33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72200"/>
                    <a:ext cx="41148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838080" y="6485040"/>
          <a:ext cx="2743200" cy="363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6485040"/>
                    <a:ext cx="27432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6"/>
          <a:srcRect l="16319" t="26669" r="27296" b="41728"/>
          <a:stretch/>
        </p:blipFill>
        <p:spPr>
          <a:xfrm>
            <a:off x="0" y="2209680"/>
            <a:ext cx="4724280" cy="397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rcRect l="0" t="9604" r="5040" b="83583"/>
          <a:stretch/>
        </p:blipFill>
        <p:spPr>
          <a:xfrm>
            <a:off x="2438280" y="4835520"/>
            <a:ext cx="6705720" cy="722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rcRect l="10816" t="0" r="5040" b="89603"/>
          <a:stretch/>
        </p:blipFill>
        <p:spPr>
          <a:xfrm>
            <a:off x="3200400" y="2057400"/>
            <a:ext cx="59436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6:44:37Z</dcterms:created>
  <dc:creator> ata.maryam</dc:creator>
  <dc:description/>
  <dc:language>en-US</dc:language>
  <cp:lastModifiedBy> ata.maryam</cp:lastModifiedBy>
  <dcterms:modified xsi:type="dcterms:W3CDTF">2007-10-02T04:38:46Z</dcterms:modified>
  <cp:revision>63</cp:revision>
  <dc:subject/>
  <dc:title>Slide 1</dc:title>
</cp:coreProperties>
</file>