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0D18-73E0-4604-9D42-54C989A1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C137-9931-46ED-8ECB-920D1685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A0C2C-4DCF-4B0B-ADC1-E63AEF36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F59E-62E7-4704-861B-639BBE68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FF97-C0C6-4A22-A5BC-2A742F4B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E229-E4A9-4EB5-B644-C861C8EA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155B-16E5-45ED-B7BC-C2E8C140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4F69-3BE1-4444-994A-B6E16662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20D9-ADB5-40D4-A280-53B04B07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0CD9-7CA1-45E5-9B07-91B68094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0735-022B-4F69-A180-CFEB94FD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D4FE-2A70-41E1-B90B-BA85D9CA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13F9-8020-494C-997B-979F99D2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FC34-5991-4572-8313-FEEC495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7E33-B8BE-4CB4-8BE8-88C72579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931C-D4A3-4E36-A77B-56EC83FC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AF3C-2B99-4977-BAB0-3C91843B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5F96-8328-4F25-BF0B-A7A5F7B4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67AB-83CD-4A53-B371-890D8DB2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AC86-E506-4594-A7F1-07B19874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44A9-34C5-455C-AD2D-5B2ECC2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CF14-0A1E-4200-959F-45DDEB51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C871-758C-4F48-A299-5D026B52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E304-DC0B-487A-ABCF-E90E150E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78E7-0F0D-45EE-A20B-B0B2E7A8CAB8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34D2-B806-4596-91C4-2F18BF959A8E}" type="slidenum">
              <a:rPr b="0" lang="ar-E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87280" y="2097000"/>
            <a:ext cx="5004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8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18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8360" y="2393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4" descr="6619885-0-display"/>
          <p:cNvPicPr/>
          <p:nvPr/>
        </p:nvPicPr>
        <p:blipFill>
          <a:blip r:embed="rId1"/>
          <a:stretch/>
        </p:blipFill>
        <p:spPr>
          <a:xfrm>
            <a:off x="468360" y="944640"/>
            <a:ext cx="49561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76480" y="216828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4" descr="6626414-0-display"/>
          <p:cNvPicPr/>
          <p:nvPr/>
        </p:nvPicPr>
        <p:blipFill>
          <a:blip r:embed="rId1"/>
          <a:stretch/>
        </p:blipFill>
        <p:spPr>
          <a:xfrm>
            <a:off x="503280" y="260280"/>
            <a:ext cx="5275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5" descr="concretehomes"/>
          <p:cNvPicPr/>
          <p:nvPr/>
        </p:nvPicPr>
        <p:blipFill>
          <a:blip r:embed="rId1"/>
          <a:stretch/>
        </p:blipFill>
        <p:spPr>
          <a:xfrm>
            <a:off x="900000" y="1351080"/>
            <a:ext cx="75247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reftreacybuilders1"/>
          <p:cNvPicPr/>
          <p:nvPr/>
        </p:nvPicPr>
        <p:blipFill>
          <a:blip r:embed="rId1"/>
          <a:stretch/>
        </p:blipFill>
        <p:spPr>
          <a:xfrm>
            <a:off x="1295280" y="944640"/>
            <a:ext cx="6877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Tunnel_Form"/>
          <p:cNvPicPr/>
          <p:nvPr/>
        </p:nvPicPr>
        <p:blipFill>
          <a:blip r:embed="rId1"/>
          <a:stretch/>
        </p:blipFill>
        <p:spPr>
          <a:xfrm>
            <a:off x="826920" y="981000"/>
            <a:ext cx="75186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tunnelform"/>
          <p:cNvPicPr/>
          <p:nvPr/>
        </p:nvPicPr>
        <p:blipFill>
          <a:blip r:embed="rId1"/>
          <a:stretch/>
        </p:blipFill>
        <p:spPr>
          <a:xfrm>
            <a:off x="2340000" y="441360"/>
            <a:ext cx="475308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4" descr="PCG_Table_Form"/>
          <p:cNvPicPr/>
          <p:nvPr/>
        </p:nvPicPr>
        <p:blipFill>
          <a:blip r:embed="rId1"/>
          <a:stretch/>
        </p:blipFill>
        <p:spPr>
          <a:xfrm>
            <a:off x="863640" y="1282680"/>
            <a:ext cx="741672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4" descr="PCG_Wall_Systems"/>
          <p:cNvPicPr/>
          <p:nvPr/>
        </p:nvPicPr>
        <p:blipFill>
          <a:blip r:embed="rId1"/>
          <a:stretch/>
        </p:blipFill>
        <p:spPr>
          <a:xfrm>
            <a:off x="755640" y="1413000"/>
            <a:ext cx="77407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refkooi1"/>
          <p:cNvPicPr/>
          <p:nvPr/>
        </p:nvPicPr>
        <p:blipFill>
          <a:blip r:embed="rId1"/>
          <a:stretch/>
        </p:blipFill>
        <p:spPr>
          <a:xfrm>
            <a:off x="1187280" y="1413000"/>
            <a:ext cx="676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6360" y="44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11280" y="512640"/>
            <a:ext cx="8101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refkooi2"/>
          <p:cNvPicPr/>
          <p:nvPr/>
        </p:nvPicPr>
        <p:blipFill>
          <a:blip r:embed="rId1"/>
          <a:stretch/>
        </p:blipFill>
        <p:spPr>
          <a:xfrm>
            <a:off x="934920" y="1052640"/>
            <a:ext cx="748836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241111"/>
          <p:cNvPicPr/>
          <p:nvPr/>
        </p:nvPicPr>
        <p:blipFill>
          <a:blip r:embed="rId1"/>
          <a:srcRect l="0" t="1335" r="0" b="2591"/>
          <a:stretch/>
        </p:blipFill>
        <p:spPr>
          <a:xfrm>
            <a:off x="792000" y="150840"/>
            <a:ext cx="763272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87280" y="1521000"/>
            <a:ext cx="6762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224000" y="728640"/>
            <a:ext cx="68770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332000" y="584280"/>
            <a:ext cx="67323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18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20"/>
          <p:cNvPicPr/>
          <p:nvPr/>
        </p:nvPicPr>
        <p:blipFill>
          <a:blip r:embed="rId1"/>
          <a:stretch/>
        </p:blipFill>
        <p:spPr>
          <a:xfrm>
            <a:off x="900000" y="441360"/>
            <a:ext cx="73440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reftreacybuilders2"/>
          <p:cNvPicPr/>
          <p:nvPr/>
        </p:nvPicPr>
        <p:blipFill>
          <a:blip r:embed="rId1"/>
          <a:stretch/>
        </p:blipFill>
        <p:spPr>
          <a:xfrm>
            <a:off x="1295280" y="981000"/>
            <a:ext cx="66898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29200" y="2312640"/>
            <a:ext cx="32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9280" y="657360"/>
            <a:ext cx="597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yan</dc:creator>
  <dc:description/>
  <dc:language>en-US</dc:language>
  <cp:lastModifiedBy>kyan</cp:lastModifiedBy>
  <dcterms:modified xsi:type="dcterms:W3CDTF">2017-02-23T11:28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