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D97-6EEE-4395-9B65-7251887E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977-55DB-477C-A5EB-285EE43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575-D659-4F15-9096-222DFD96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292-B2F7-42AF-9269-933AEF30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5E8C-1D2C-4E87-95A0-DFE3C724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F68D-A84A-4B90-8F6D-CEBB9E06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CEED-6032-4A56-854C-DFE2D5B4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4594-9694-42C6-9CCE-15AB0BB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8E99-C688-44AB-834F-F9BD3CF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DEF2-7C9B-437F-B35A-E29E5A28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1FF-B316-4DF4-B6F6-0E3FC56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580-F8A6-44B4-BF6B-E2284D87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F13-85AC-482B-BC3E-845926E7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648D-5C42-4E5D-9495-1F508EB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3D93-CBFF-443A-BB16-EB0C2BA5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A820-50B6-41E2-81A7-504730A8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663C-7F51-435C-AEC1-19ECCD00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FDE-FF3A-40A1-ABAB-60C0131E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3AE-30E7-49F9-A53D-79D60D35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199-56FF-47FA-9C3A-A5B9EEBC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EDF-E0AC-43E2-AF49-280D2A09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663-2145-4A07-9E4A-3642709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4A3-F4EF-4F77-AE79-76577BD7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061-472F-4AF1-AAB0-C52C3F24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FCB-DE73-42E7-B42A-51FF5553F3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9023-0501-4691-96B6-E57D5383E6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harif.ac.ir/intro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525320"/>
            <a:ext cx="8640720" cy="1901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6666"/>
                </a:solidFill>
                <a:latin typeface="Arial Black"/>
                <a:ea typeface="Zar"/>
              </a:rPr>
              <a:t>Water Resource Management Company (WRM)</a:t>
            </a:r>
            <a:br>
              <a:rPr sz="2500"/>
            </a:br>
            <a:r>
              <a:rPr b="1" i="1" lang="fa-IR" sz="2800" spc="-1" strike="noStrike">
                <a:solidFill>
                  <a:srgbClr val="336666"/>
                </a:solidFill>
                <a:latin typeface="Arial Black"/>
                <a:ea typeface="Zar"/>
              </a:rPr>
              <a:t> </a:t>
            </a:r>
            <a:r>
              <a:rPr b="1" i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Ministry of Energy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457440"/>
            <a:ext cx="5410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nian Approach to Dam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15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15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15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rmsu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609480"/>
            <a:ext cx="13971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84360" y="2573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  <a:ea typeface="Zar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81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  <a:ea typeface="Zar"/>
              </a:rPr>
              <a:t>Dam Safety Procedure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AutoShape 23"/>
          <p:cNvSpPr/>
          <p:nvPr/>
        </p:nvSpPr>
        <p:spPr>
          <a:xfrm>
            <a:off x="2700360" y="1917720"/>
            <a:ext cx="417672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3059280" y="53150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4716360" y="28098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3708360" y="3533760"/>
            <a:ext cx="2087640" cy="7160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5838840" y="38908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4716360" y="4272120"/>
            <a:ext cx="0" cy="669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5781600" y="4278240"/>
            <a:ext cx="93672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 rot="16200000">
            <a:off x="808560" y="4937400"/>
            <a:ext cx="1189080" cy="7207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nt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3"/>
          <p:cNvSpPr/>
          <p:nvPr/>
        </p:nvSpPr>
        <p:spPr>
          <a:xfrm>
            <a:off x="6732720" y="3533760"/>
            <a:ext cx="2087280" cy="7160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ergency Action Plan (E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4"/>
          <p:cNvSpPr/>
          <p:nvPr/>
        </p:nvSpPr>
        <p:spPr>
          <a:xfrm>
            <a:off x="3706920" y="4943520"/>
            <a:ext cx="2087280" cy="7160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Dam Safety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6745320" y="4943520"/>
            <a:ext cx="2087640" cy="7160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Retro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5840280" y="530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7"/>
          <p:cNvSpPr/>
          <p:nvPr/>
        </p:nvSpPr>
        <p:spPr>
          <a:xfrm>
            <a:off x="3059280" y="27957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8"/>
          <p:cNvSpPr/>
          <p:nvPr/>
        </p:nvSpPr>
        <p:spPr>
          <a:xfrm rot="16200000">
            <a:off x="810360" y="3503880"/>
            <a:ext cx="1189080" cy="7207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684360" y="663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  <a:ea typeface="Zar"/>
              </a:rPr>
              <a:t>Dam Safety Practice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Monitoring Activities Levels </a:t>
            </a:r>
            <a:br>
              <a:rPr sz="28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in WRM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2482920" y="5229360"/>
            <a:ext cx="417672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M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885960" y="368604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Water Compan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250920" y="2292480"/>
            <a:ext cx="1944720" cy="7189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2511360" y="2293920"/>
            <a:ext cx="1944720" cy="71928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3203640" y="4581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V="1">
            <a:off x="3348000" y="45669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1633680" y="30542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778040" y="304020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2887560" y="305604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V="1">
            <a:off x="3032280" y="3041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5351400" y="367344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Water Company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4716360" y="2279520"/>
            <a:ext cx="1944720" cy="71928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6977160" y="2281320"/>
            <a:ext cx="1944720" cy="7189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6099120" y="3041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 flipV="1">
            <a:off x="6243480" y="30268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7353360" y="30430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 flipV="1">
            <a:off x="7497720" y="302904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5737320" y="459756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5881680" y="4582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65"/>
          <p:cNvSpPr/>
          <p:nvPr/>
        </p:nvSpPr>
        <p:spPr>
          <a:xfrm>
            <a:off x="684360" y="56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  <a:ea typeface="Zar"/>
              </a:rPr>
              <a:t>Dam Safety Practice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Monitoring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Activities </a:t>
            </a:r>
            <a:br>
              <a:rPr sz="28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Dam Safet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6"/>
          <p:cNvSpPr/>
          <p:nvPr/>
        </p:nvSpPr>
        <p:spPr>
          <a:xfrm>
            <a:off x="2916360" y="175896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7"/>
          <p:cNvSpPr/>
          <p:nvPr/>
        </p:nvSpPr>
        <p:spPr>
          <a:xfrm rot="16200000">
            <a:off x="670680" y="3690000"/>
            <a:ext cx="1814400" cy="431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8"/>
          <p:cNvSpPr/>
          <p:nvPr/>
        </p:nvSpPr>
        <p:spPr>
          <a:xfrm rot="16200000">
            <a:off x="1159560" y="3691440"/>
            <a:ext cx="1814760" cy="431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co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9"/>
          <p:cNvSpPr/>
          <p:nvPr/>
        </p:nvSpPr>
        <p:spPr>
          <a:xfrm rot="16200000">
            <a:off x="1634400" y="3693240"/>
            <a:ext cx="1814400" cy="432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0"/>
          <p:cNvSpPr/>
          <p:nvPr/>
        </p:nvSpPr>
        <p:spPr>
          <a:xfrm rot="16200000">
            <a:off x="2110320" y="3694320"/>
            <a:ext cx="1814760" cy="432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1"/>
          <p:cNvSpPr/>
          <p:nvPr/>
        </p:nvSpPr>
        <p:spPr>
          <a:xfrm rot="16200000">
            <a:off x="2599560" y="3690000"/>
            <a:ext cx="1814400" cy="432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2"/>
          <p:cNvSpPr/>
          <p:nvPr/>
        </p:nvSpPr>
        <p:spPr>
          <a:xfrm rot="16200000">
            <a:off x="3132720" y="3632760"/>
            <a:ext cx="1814400" cy="546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Insp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4"/>
          <p:cNvSpPr/>
          <p:nvPr/>
        </p:nvSpPr>
        <p:spPr>
          <a:xfrm rot="16200000">
            <a:off x="3723480" y="3634200"/>
            <a:ext cx="1814760" cy="546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ergency Insp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6"/>
          <p:cNvSpPr/>
          <p:nvPr/>
        </p:nvSpPr>
        <p:spPr>
          <a:xfrm rot="16200000">
            <a:off x="4255200" y="3691440"/>
            <a:ext cx="1814760" cy="431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7"/>
          <p:cNvSpPr/>
          <p:nvPr/>
        </p:nvSpPr>
        <p:spPr>
          <a:xfrm rot="16200000">
            <a:off x="4731480" y="3693240"/>
            <a:ext cx="1814400" cy="431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8"/>
          <p:cNvSpPr/>
          <p:nvPr/>
        </p:nvSpPr>
        <p:spPr>
          <a:xfrm rot="16200000">
            <a:off x="5206320" y="3690000"/>
            <a:ext cx="1814400" cy="432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79"/>
          <p:cNvSpPr/>
          <p:nvPr/>
        </p:nvSpPr>
        <p:spPr>
          <a:xfrm rot="16200000">
            <a:off x="6020640" y="3369600"/>
            <a:ext cx="1814400" cy="107928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Warning in Emergency Condi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80"/>
          <p:cNvSpPr/>
          <p:nvPr/>
        </p:nvSpPr>
        <p:spPr>
          <a:xfrm rot="16200000">
            <a:off x="6818760" y="3691080"/>
            <a:ext cx="1814760" cy="432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1"/>
          <p:cNvSpPr/>
          <p:nvPr/>
        </p:nvSpPr>
        <p:spPr>
          <a:xfrm>
            <a:off x="6611760" y="1832040"/>
            <a:ext cx="2087640" cy="7160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2"/>
          <p:cNvSpPr/>
          <p:nvPr/>
        </p:nvSpPr>
        <p:spPr>
          <a:xfrm>
            <a:off x="2916360" y="518796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Wa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3"/>
          <p:cNvSpPr/>
          <p:nvPr/>
        </p:nvSpPr>
        <p:spPr>
          <a:xfrm flipH="1">
            <a:off x="4427640" y="2637000"/>
            <a:ext cx="1440" cy="15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5"/>
          <p:cNvSpPr/>
          <p:nvPr/>
        </p:nvSpPr>
        <p:spPr>
          <a:xfrm>
            <a:off x="1549440" y="2824200"/>
            <a:ext cx="61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6"/>
          <p:cNvSpPr/>
          <p:nvPr/>
        </p:nvSpPr>
        <p:spPr>
          <a:xfrm>
            <a:off x="156384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7"/>
          <p:cNvSpPr/>
          <p:nvPr/>
        </p:nvSpPr>
        <p:spPr>
          <a:xfrm>
            <a:off x="20653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8"/>
          <p:cNvSpPr/>
          <p:nvPr/>
        </p:nvSpPr>
        <p:spPr>
          <a:xfrm>
            <a:off x="252720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9"/>
          <p:cNvSpPr/>
          <p:nvPr/>
        </p:nvSpPr>
        <p:spPr>
          <a:xfrm>
            <a:off x="30160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0"/>
          <p:cNvSpPr/>
          <p:nvPr/>
        </p:nvSpPr>
        <p:spPr>
          <a:xfrm>
            <a:off x="34909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1"/>
          <p:cNvSpPr/>
          <p:nvPr/>
        </p:nvSpPr>
        <p:spPr>
          <a:xfrm>
            <a:off x="40384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2"/>
          <p:cNvSpPr/>
          <p:nvPr/>
        </p:nvSpPr>
        <p:spPr>
          <a:xfrm>
            <a:off x="462924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3"/>
          <p:cNvSpPr/>
          <p:nvPr/>
        </p:nvSpPr>
        <p:spPr>
          <a:xfrm>
            <a:off x="516240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4"/>
          <p:cNvSpPr/>
          <p:nvPr/>
        </p:nvSpPr>
        <p:spPr>
          <a:xfrm>
            <a:off x="56530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5"/>
          <p:cNvSpPr/>
          <p:nvPr/>
        </p:nvSpPr>
        <p:spPr>
          <a:xfrm>
            <a:off x="61117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96"/>
          <p:cNvSpPr/>
          <p:nvPr/>
        </p:nvSpPr>
        <p:spPr>
          <a:xfrm>
            <a:off x="69184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7"/>
          <p:cNvSpPr/>
          <p:nvPr/>
        </p:nvSpPr>
        <p:spPr>
          <a:xfrm>
            <a:off x="77263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8"/>
          <p:cNvSpPr/>
          <p:nvPr/>
        </p:nvSpPr>
        <p:spPr>
          <a:xfrm>
            <a:off x="5654520" y="48402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9"/>
          <p:cNvSpPr/>
          <p:nvPr/>
        </p:nvSpPr>
        <p:spPr>
          <a:xfrm>
            <a:off x="6113520" y="48402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0"/>
          <p:cNvSpPr/>
          <p:nvPr/>
        </p:nvSpPr>
        <p:spPr>
          <a:xfrm>
            <a:off x="6919920" y="48402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1"/>
          <p:cNvSpPr/>
          <p:nvPr/>
        </p:nvSpPr>
        <p:spPr>
          <a:xfrm>
            <a:off x="4427640" y="4998960"/>
            <a:ext cx="250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2"/>
          <p:cNvSpPr/>
          <p:nvPr/>
        </p:nvSpPr>
        <p:spPr>
          <a:xfrm flipH="1">
            <a:off x="4441320" y="4997520"/>
            <a:ext cx="1800" cy="15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3"/>
          <p:cNvSpPr/>
          <p:nvPr/>
        </p:nvSpPr>
        <p:spPr>
          <a:xfrm>
            <a:off x="6054840" y="21034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4"/>
          <p:cNvSpPr/>
          <p:nvPr/>
        </p:nvSpPr>
        <p:spPr>
          <a:xfrm flipH="1">
            <a:off x="6041880" y="21906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4360" y="56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  <a:ea typeface="Zar"/>
              </a:rPr>
              <a:t>Dam Safety Practice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Monitoring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Activities 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Dam Safety Office (</a:t>
            </a:r>
            <a:r>
              <a:rPr b="1" lang="en-US" sz="1800" spc="-1" strike="noStrike">
                <a:solidFill>
                  <a:srgbClr val="336666"/>
                </a:solidFill>
                <a:latin typeface="Arial Black"/>
                <a:ea typeface="Zar"/>
              </a:rPr>
              <a:t>Regional Water Compan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6360" y="175896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Wat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 rot="16200000">
            <a:off x="-259920" y="3638520"/>
            <a:ext cx="1814400" cy="53496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nd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16200000">
            <a:off x="307800" y="3647520"/>
            <a:ext cx="1814760" cy="519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Behavior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 rot="16200000">
            <a:off x="5334840" y="3369600"/>
            <a:ext cx="1814400" cy="107928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Warning in Emergency Condi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 rot="16200000">
            <a:off x="6161760" y="3691440"/>
            <a:ext cx="1814760" cy="431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6611760" y="1832040"/>
            <a:ext cx="2087640" cy="7160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4427640" y="2637000"/>
            <a:ext cx="1440" cy="15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641520" y="2824200"/>
            <a:ext cx="731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6415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12304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179244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4"/>
          <p:cNvSpPr/>
          <p:nvPr/>
        </p:nvSpPr>
        <p:spPr>
          <a:xfrm>
            <a:off x="24703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5"/>
          <p:cNvSpPr/>
          <p:nvPr/>
        </p:nvSpPr>
        <p:spPr>
          <a:xfrm>
            <a:off x="329076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6"/>
          <p:cNvSpPr/>
          <p:nvPr/>
        </p:nvSpPr>
        <p:spPr>
          <a:xfrm>
            <a:off x="408132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481644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539280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62326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4816440" y="48117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5392800" y="48117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4465800" y="4970520"/>
            <a:ext cx="2604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6"/>
          <p:cNvSpPr/>
          <p:nvPr/>
        </p:nvSpPr>
        <p:spPr>
          <a:xfrm flipH="1">
            <a:off x="4441320" y="4968720"/>
            <a:ext cx="1800" cy="18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>
            <a:off x="6054840" y="21034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 flipH="1">
            <a:off x="6041880" y="21906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9"/>
          <p:cNvSpPr/>
          <p:nvPr/>
        </p:nvSpPr>
        <p:spPr>
          <a:xfrm rot="16200000">
            <a:off x="882720" y="3645000"/>
            <a:ext cx="1814400" cy="519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and Case Insp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 rot="16200000">
            <a:off x="1568520" y="3522600"/>
            <a:ext cx="1814400" cy="7639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1"/>
          <p:cNvSpPr/>
          <p:nvPr/>
        </p:nvSpPr>
        <p:spPr>
          <a:xfrm rot="16200000">
            <a:off x="3898800" y="3645000"/>
            <a:ext cx="1814400" cy="519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ing Annual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2"/>
          <p:cNvSpPr/>
          <p:nvPr/>
        </p:nvSpPr>
        <p:spPr>
          <a:xfrm rot="16200000">
            <a:off x="4486320" y="3645000"/>
            <a:ext cx="1814400" cy="519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3"/>
          <p:cNvSpPr/>
          <p:nvPr/>
        </p:nvSpPr>
        <p:spPr>
          <a:xfrm rot="16200000">
            <a:off x="7061400" y="3292560"/>
            <a:ext cx="1814400" cy="1224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Making for Case Studies and Rehabilitation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>
            <a:off x="6243480" y="48117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7078680" y="4827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7"/>
          <p:cNvSpPr/>
          <p:nvPr/>
        </p:nvSpPr>
        <p:spPr>
          <a:xfrm>
            <a:off x="2887560" y="520056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8"/>
          <p:cNvSpPr/>
          <p:nvPr/>
        </p:nvSpPr>
        <p:spPr>
          <a:xfrm rot="16200000">
            <a:off x="2376360" y="3524040"/>
            <a:ext cx="1814400" cy="76356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and Completing Technical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9"/>
          <p:cNvSpPr/>
          <p:nvPr/>
        </p:nvSpPr>
        <p:spPr>
          <a:xfrm rot="16200000">
            <a:off x="3197160" y="3525480"/>
            <a:ext cx="1814760" cy="76356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and Completing Data 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0"/>
          <p:cNvSpPr/>
          <p:nvPr/>
        </p:nvSpPr>
        <p:spPr>
          <a:xfrm>
            <a:off x="7077240" y="28242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>
            <a:off x="7956720" y="28242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3"/>
          <p:cNvSpPr/>
          <p:nvPr/>
        </p:nvSpPr>
        <p:spPr>
          <a:xfrm>
            <a:off x="3073320" y="1758960"/>
            <a:ext cx="3095640" cy="86364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 rot="16200000">
            <a:off x="1468440" y="3638520"/>
            <a:ext cx="1814400" cy="53496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fe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 rot="16200000">
            <a:off x="2064960" y="3647520"/>
            <a:ext cx="1814760" cy="519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of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 rot="16200000">
            <a:off x="4877280" y="3691080"/>
            <a:ext cx="1814760" cy="432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4584240" y="2637000"/>
            <a:ext cx="1800" cy="158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2379600" y="2824200"/>
            <a:ext cx="429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238284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298764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375120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>
            <a:off x="458640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52498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578160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6673680" y="28386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7"/>
          <p:cNvSpPr/>
          <p:nvPr/>
        </p:nvSpPr>
        <p:spPr>
          <a:xfrm rot="16200000">
            <a:off x="2835360" y="3463920"/>
            <a:ext cx="1814400" cy="88128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 Safety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9"/>
          <p:cNvSpPr/>
          <p:nvPr/>
        </p:nvSpPr>
        <p:spPr>
          <a:xfrm rot="16200000">
            <a:off x="3671640" y="3581280"/>
            <a:ext cx="1814400" cy="6462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ized Case Insp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0"/>
          <p:cNvSpPr/>
          <p:nvPr/>
        </p:nvSpPr>
        <p:spPr>
          <a:xfrm rot="16200000">
            <a:off x="4327200" y="3658680"/>
            <a:ext cx="1814760" cy="51912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Ba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1"/>
          <p:cNvSpPr/>
          <p:nvPr/>
        </p:nvSpPr>
        <p:spPr>
          <a:xfrm rot="16200000">
            <a:off x="5775480" y="3292560"/>
            <a:ext cx="1814400" cy="1224000"/>
          </a:xfrm>
          <a:prstGeom prst="flowChartAlternateProcess">
            <a:avLst/>
          </a:prstGeom>
          <a:gradFill rotWithShape="0">
            <a:gsLst>
              <a:gs pos="0">
                <a:srgbClr val="182f2f"/>
              </a:gs>
              <a:gs pos="50000">
                <a:srgbClr val="336666"/>
              </a:gs>
              <a:gs pos="100000">
                <a:srgbClr val="182f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Making for Case Studies and Rehabilitation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684360" y="56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 Black"/>
                <a:ea typeface="Zar"/>
              </a:rPr>
              <a:t>Dam Safety Practice</a:t>
            </a: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6666"/>
                </a:solidFill>
                <a:latin typeface="Arial Black"/>
                <a:ea typeface="Zar"/>
              </a:rPr>
              <a:t>Monitoring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Activities 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  <a:ea typeface="Zar"/>
              </a:rPr>
              <a:t>Dam Safety Office (</a:t>
            </a:r>
            <a:r>
              <a:rPr b="1" lang="en-US" sz="1800" spc="-1" strike="noStrike">
                <a:solidFill>
                  <a:srgbClr val="336666"/>
                </a:solidFill>
                <a:latin typeface="Arial Black"/>
                <a:ea typeface="Zar"/>
              </a:rPr>
              <a:t>WRM Compa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Educating staff responsible for dam safety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inspecting of all dams under operation regularly and preparing related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Specifying the current state of safety in large dams and determining the required remedial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550"/>
              </a:spcBef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550"/>
              </a:spcBef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84360" y="34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  <a:ea typeface="Zar"/>
              </a:rPr>
              <a:t>Dam Safety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aking immediate action to unusual events such as earthquake and preparing related safety reports based on the provided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Defining detailed tasks for periodic dam safety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d6e0e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550"/>
              </a:spcBef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550"/>
              </a:spcBef>
              <a:buClr>
                <a:srgbClr val="ff9933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414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  <a:ea typeface="Zar"/>
              </a:rPr>
              <a:t>Dam Safety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14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53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3366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o carry out the periodic dam safety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3366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o upgrade the safety related instrum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3366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o prepare national “Dam Safety Guidelin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3366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o prepare “National and Local Emergency Action Plans, Flood Management in Upstream and Downstream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3366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o approve national laws in dam safety affairs in I.R. Ir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3366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To apply Risk Analysis approach in Dam Safety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Arial Black"/>
                <a:ea typeface="Zar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an</dc:creator>
  <dc:description/>
  <dc:language>en-US</dc:language>
  <cp:lastModifiedBy>kyan</cp:lastModifiedBy>
  <dcterms:modified xsi:type="dcterms:W3CDTF">2016-12-19T12:47:44Z</dcterms:modified>
  <cp:revision>111</cp:revision>
  <dc:subject/>
  <dc:title>PowerPoint Presentation</dc:title>
</cp:coreProperties>
</file>